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08CF2-446E-4E72-9A89-7843C253F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199B4F-D62E-4974-B9AB-FDBFB08ABD9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58E1B0-EFF8-4525-A79F-068650392B9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98467C-4CF8-4429-B6F4-2CD8057F37E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A90A4B-E508-4403-80FD-34AF03DDC4E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2DAF61-738B-407F-99E6-3515CBE0861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693E55-A81A-46D9-B44A-BF239D8161E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7FE025-F898-47AD-8D79-C7ACF743B3C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3003FE-B409-42FF-BD3C-F36B5C77AF2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7BCD4F-10E5-46A8-A81D-D453DFD2F0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124C5-6A4C-43C6-9DA5-E90BCF85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ED0A2-6DED-4DE4-BD08-07B85494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D4C7D-304F-42A6-8406-6C04B6B4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C9F9EA-017F-4DA2-97EA-3EFE2E11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54F6D1-3671-43E6-8B31-1E545CAB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43C47-D2FE-4B68-B8B0-BB893478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62304-6910-40E7-8BCB-293C083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93CF6-347A-4D54-9872-49C02832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E3777C-5B9E-4184-B552-E59D966B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83D83-7535-4669-8A0B-9B727984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EBD0B-DA39-4F27-B711-3729E77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24024-F97F-4860-B4E8-05107D0E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18002B-7953-4B82-9083-587E42E7D2CB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77</TotalTime>
  <Application>LibreOffice/7.4.7.2$Linux_X86_64 LibreOffice_project/40$Build-2</Application>
  <AppVersion>15.0000</AppVersion>
  <Words>830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58:51Z</dcterms:modified>
  <cp:revision>322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