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B8E9EE-1894-436E-9BD8-6D892DFDB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4E8376-6C5E-44BF-94B6-7E8F54E7FD3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6C12556-59A5-453B-96F5-AC14055B4E1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2759D87-92E8-4F12-B829-7BBE3E7F0C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3D6067A-8D28-4D79-8C16-893F74A1046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3E94704-A81A-4F2F-816B-F6BC900AA0D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19616C2-979B-45C0-A146-987A6F6A87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6E2249-2E16-4FB9-85D5-06E7E98A6D9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829632-227A-4A74-9C16-2D71EB3D7A2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A9C880C-96CB-4FD4-9591-0BDF2370EAC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AB09BB-25D5-48DF-99D4-0FAC2322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97280-7B51-4FF6-B348-1BF7AF139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C2BD91-BBD9-4926-8BBF-F1D9AC8C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73F8AF-4212-435F-8A3C-84537A79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B9938B-CF05-4DBF-8AFD-6D6495AA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6896BF-8483-4874-ADB4-1ACD04FC7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45BB1-DF11-43ED-9EBF-DAFA6EC7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4EFF083-C0E7-4FB4-965E-ADD5FCFA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6EA204C-74B8-47E6-BEDA-E0D3EF10F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AE4A68-DF04-4D57-B33C-C80939BC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941A6C-62B9-4773-A736-2797F6D0E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8A30CF-196E-4D13-A0DA-8D9388F48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909286B-5A98-46C7-92D9-F0B0064BB750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77</TotalTime>
  <Application>LibreOffice/7.4.7.2$Linux_X86_64 LibreOffice_project/40$Build-2</Application>
  <AppVersion>15.0000</AppVersion>
  <Words>830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58:51Z</dcterms:modified>
  <cp:revision>322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