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046ED1-3718-4A98-9CD6-9D77EDBB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112977-E610-42E0-942A-DD3405759FF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ED846DF-BB3A-483E-963B-883B99B754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EABC7D-3AAC-4BF8-A1FC-9CE7A2B39D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DF6374-DFFE-4CDA-A8EA-3974BEEA588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29D458-F4F9-432F-921E-C6ACFAF62F7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53AB36-6741-4B95-859B-4C7CF0FF09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FA9D6C-77A9-4647-A713-F6CEBEBC24A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2B791C-0406-4A8D-BE59-B2EB671413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727AA1-380D-4373-A58D-A74EC2BEA10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65BDF-55AD-435A-A69A-B4DBCC4F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AE9DC-9DEF-4F9D-9276-E7B7E5F6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C649D-80DD-44F0-80EC-85CA681A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94A030-9671-4A34-A2BD-F663BD90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6A0994-3663-49B3-8A81-095E546F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3D36C7-A506-42A5-B7F8-44E29ABA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75FC6-AC7D-4664-AE40-BBA7478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07D0A-3D33-4C2D-B5B2-925849D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7027E-F768-4027-8889-2852BBC8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9C668-AD81-411B-A9A0-167DDC83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61877A-B19A-42DE-9DCE-8C826157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8540DD-0A6B-4395-BE0B-286E25CB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70FE2C0-407A-46A7-9C3E-80BA6E2A94BD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77</TotalTime>
  <Application>LibreOffice/7.4.7.2$Linux_X86_64 LibreOffice_project/40$Build-2</Application>
  <AppVersion>15.0000</AppVersion>
  <Words>830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58:51Z</dcterms:modified>
  <cp:revision>322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