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7DE2D-D48D-43C1-96A4-5264BA0E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C3432D-FF6D-4E2A-964D-B30EB8DFEA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곳과 평가시스템 이용을 위한 업무협약을 추진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93DF21-91BD-49C0-98A6-C0FB465A9C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1C7596-C78A-4F7B-B137-15CC88FC29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364549-6A40-4C4A-B540-D75B0165F12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제안평가 플랫폼” 민간에  전면 개방을 통하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종합적인 추진성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은 인쇄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 등 입찰비용은 최소화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은 평가위원 교섭이 용이해졌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무원 비 접촉으로 갑을 환경이 차단되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입찰의 공정성을 확보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자체조달의 모든 입찰방식에 적용하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계약에  최소 매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0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 비용절감 효과를 기대할 수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비용 절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1,4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연간 협상계약 입찰 총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×1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 평균 응찰자 수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2.78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개 사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×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인쇄․출장비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최소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‣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 × 2.78 × 12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= 1,434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,80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A6D1E4-2EFB-4E45-B8B4-7FC11CCF3EC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가 생각하는 적극행정이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이 손이 미치지 않은  가려운 곳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긁어주는 “효자손＂과 같다고 생각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551108-32FD-4232-AF2E-BE769FC2F1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왜냐하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음과 같은 국민의 고충사례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평가위원 섭외가 안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들고 서울로 올라가서 평가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김천혁신도시 공공기관 평가담당자도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도까지 입찰서를 제출해야만 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업체 입찰담당자의 어려움을  들을 수 있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EED3E-C566-464A-87C5-0A28F8940B1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저희 조달청에서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국민의 고충을 적극 해결한 노력의 결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조달업체에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간과 비용면에서 확실히 만족하다” 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수 의견을 볼 수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월 조달청장 주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규제개선 간담회 현장에서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제본비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을 절감했다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빨리 모든 공공기관이 사용하도록 시스템을 조기 개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확대를 요청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와 관련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중소기업 대표님의 목소리를 끝으로 들으면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를 마치겠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E888EC-D971-499F-9D01-96D3920EC4F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EF439C-F447-4F6D-BC82-C10A39BB54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순서는 현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방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성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 순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16AECB-E5F6-49FC-B16F-BFAE1DDE1E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E4AF1E-7599-4340-922E-2E5D2C96E60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EDDD7-CB99-4E1A-B8E9-9CD3E531C4B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94C8B9-62F1-4626-878D-86E54F737A5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4904EC-7AF2-4AE4-A9A5-41465D6BBC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8DF0F7-7276-484D-AADE-3DD8BCE2E25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세부추진 내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 평가 법제도 개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과 업무협약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실시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기관이 사용할 수 있도록 시스템 사용자 교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홍보를 추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5E7ED0-A35F-4265-9611-337AA08FCF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법제도 개선사항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에 의한 계약체결기준 계약예규를 개정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전자적 제출을 의무화 하였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공공기관이 사용할 수 있도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시스템 제안평가 부분 이용약관을 제정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E82CF6-B1BD-42D0-9516-37F19327F52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9A3-7892-42EE-AAB5-79260ABB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1D0-8980-4ED4-A425-10ECCD3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F6C-4BC8-44F8-8EDA-EFC84A52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230-2B9B-4D1B-AAA1-7C11384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5CB-87D4-4D95-A119-4D88C64E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B7D-2C8A-469A-AA33-864B7FD2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031-8DCB-4B93-A5BD-2A14C786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FF6-2668-47C2-A371-FB4866E7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0AE-8456-46D9-8076-062ED83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6D8-2CD3-45AE-A7E5-7384DCC7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0CD-60FF-440B-8553-1F0BF377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A9E-EB80-43AB-8CF6-9F95A5CA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297645-3BDA-41E0-ACC3-46E49D0D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41A9F3-E0BB-420F-A62D-8AE77AAF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DD4A9-E4F9-43E0-A135-6C942635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AFA4D-7F08-45F8-AB55-CB9B4F64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53389-6AAD-45CB-B62D-4F63A6AA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A8AF0E-CEC1-4143-B78C-A382E173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DD011-FD70-492A-BD3A-8E163E0B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524FE1-6483-435A-A1C8-F2E71E8D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94024-977B-4D51-81A7-10F2258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CA95B-1BFE-4B20-8EDE-54A3514B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E768CD-56B8-4C03-A4B9-477E3423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098E4-EB6F-43BE-8EF7-031D5F2A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C4EA0-8E04-405A-967D-50C60A38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8C4F4E-94D8-49AC-8F08-0DE16ABF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BBCEEA-5DF9-4BDC-90CC-5CA1244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84DCE5-02F9-4F1E-A26A-B53A2D2B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10462-2CD4-4818-A95B-8CF7B626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AC0731-544C-4639-BF98-743F4A1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145EAC-2C3F-4912-B5FE-A9A5056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D070A-1212-4AA9-BED8-7CEB7998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FA7ED5-C759-4916-AB5B-96AE818E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868DEB-81AD-45CE-A904-C3A3EC2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B2EF5-CDD1-49AB-80E9-9D251708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11D0C1-46A5-40FC-B58F-5B05CB5A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직사각형 18"/>
          <p:cNvSpPr/>
          <p:nvPr/>
        </p:nvSpPr>
        <p:spPr>
          <a:xfrm>
            <a:off x="152280" y="152280"/>
            <a:ext cx="8832600" cy="30456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직사각형 17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직사각형 15"/>
          <p:cNvSpPr/>
          <p:nvPr/>
        </p:nvSpPr>
        <p:spPr>
          <a:xfrm>
            <a:off x="0" y="0"/>
            <a:ext cx="9143640" cy="118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직사각형 12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23619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직사각형 7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직선 연결선 8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3124080" y="6858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7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타원 9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타원 10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3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2D1381F-288F-436D-AD66-E2CF8D09C25B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직사각형 20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ftr" idx="5"/>
          </p:nvPr>
        </p:nvSpPr>
        <p:spPr>
          <a:xfrm>
            <a:off x="301680" y="6410880"/>
            <a:ext cx="3382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8"/>
          </p:nvPr>
        </p:nvSpPr>
        <p:spPr>
          <a:xfrm>
            <a:off x="5791320" y="640980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9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0"/>
          </p:nvPr>
        </p:nvSpPr>
        <p:spPr>
          <a:xfrm>
            <a:off x="4343400" y="10400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33F78D1-E189-4CD0-99A7-25F9433C5A6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직선 연결선 7"/>
          <p:cNvSpPr/>
          <p:nvPr/>
        </p:nvSpPr>
        <p:spPr>
          <a:xfrm flipV="1">
            <a:off x="4563000" y="1575360"/>
            <a:ext cx="9000" cy="4819680"/>
          </a:xfrm>
          <a:prstGeom prst="line">
            <a:avLst/>
          </a:prstGeom>
          <a:ln w="9525">
            <a:solidFill>
              <a:srgbClr val="c5d1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타원 10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1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2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5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B0F7F4E-2086-4B06-B860-82733E1BAC53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microsoft.com/office/2007/relationships/hdphoto" Target="../media/hdphoto1.wdp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조달청 신기술서비스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정보기술계약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 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(</a:t>
            </a: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고운혁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조달청</a:t>
            </a: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『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제안</a:t>
            </a:r>
            <a:r>
              <a:rPr b="1" lang="en-US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/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평가 플랫폼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』민간 개방⋅확대로</a:t>
            </a:r>
            <a:r>
              <a:rPr b="1" lang="en-US" sz="3200" spc="-13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“입찰비용 절감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640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”, “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행위 차단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!!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직사각형 3"/>
          <p:cNvSpPr/>
          <p:nvPr/>
        </p:nvSpPr>
        <p:spPr>
          <a:xfrm>
            <a:off x="683640" y="2656800"/>
            <a:ext cx="79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모든 공공기관 활용할 경우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4,000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 비용절감 기대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2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 공공기관과 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안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평가 공동활용 위한 지방이전 공공기관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5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곳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과 업무협약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시범사업 과정을 통해 시스템 개선 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맑은 고딕"/>
              </a:rPr>
              <a:t>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 공공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민간에 전면개방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’19.10~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857160" y="3223080"/>
            <a:ext cx="3571560" cy="2142720"/>
          </a:xfrm>
          <a:prstGeom prst="rect">
            <a:avLst/>
          </a:prstGeom>
          <a:ln w="9525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4714920" y="3223080"/>
            <a:ext cx="3785760" cy="214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81" name="직사각형 14"/>
          <p:cNvSpPr/>
          <p:nvPr/>
        </p:nvSpPr>
        <p:spPr>
          <a:xfrm>
            <a:off x="285840" y="5580360"/>
            <a:ext cx="8429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buClr>
                <a:srgbClr val="0d0d0d"/>
              </a:buClr>
              <a:buFont typeface="Arial"/>
              <a:buChar char="•"/>
            </a:pP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정보통신산업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에너지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교통안전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방송통신전파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과학창의재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교육 홍보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및 시스템 사용자 교육 및 홍보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 중심 권역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6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집체교육 및 홍보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1,500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명 이상 참석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교육원 정규교육 과정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e-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설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9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회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4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385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정량성과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‘18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년 이후 입찰비용 총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640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절감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협상계약 제안서 온라인 제출은 제도개선 시점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년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월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이후 대폭증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직사각형 10"/>
          <p:cNvSpPr/>
          <p:nvPr/>
        </p:nvSpPr>
        <p:spPr>
          <a:xfrm>
            <a:off x="285840" y="242892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522360" y="26431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주요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비용 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349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억 절감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직사각형 9"/>
          <p:cNvSpPr/>
          <p:nvPr/>
        </p:nvSpPr>
        <p:spPr>
          <a:xfrm>
            <a:off x="285840" y="5500800"/>
            <a:ext cx="8500680" cy="719640"/>
          </a:xfrm>
          <a:prstGeom prst="rect">
            <a:avLst/>
          </a:prstGeom>
          <a:solidFill>
            <a:srgbClr val="ffffff"/>
          </a:solidFill>
          <a:ln>
            <a:solidFill>
              <a:srgbClr val="d16349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2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요약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발표자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각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부씩 제안서 최소 인쇄비용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*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입찰현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현장설명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발표 등 일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식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교통비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당 최소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 지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12"/>
          <p:cNvSpPr/>
          <p:nvPr/>
        </p:nvSpPr>
        <p:spPr>
          <a:xfrm>
            <a:off x="4969800" y="3141000"/>
            <a:ext cx="3816720" cy="161208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인쇄비용 절감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출장비용 절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)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자유형 16"/>
          <p:cNvSpPr/>
          <p:nvPr/>
        </p:nvSpPr>
        <p:spPr>
          <a:xfrm>
            <a:off x="1360080" y="307188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96" name="자유형 18"/>
          <p:cNvSpPr/>
          <p:nvPr/>
        </p:nvSpPr>
        <p:spPr>
          <a:xfrm>
            <a:off x="1550880" y="39898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3"/>
          <a:stretch/>
        </p:blipFill>
        <p:spPr>
          <a:xfrm>
            <a:off x="3357720" y="35002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398" name="오른쪽 화살표 11"/>
          <p:cNvSpPr/>
          <p:nvPr/>
        </p:nvSpPr>
        <p:spPr>
          <a:xfrm>
            <a:off x="4500720" y="357192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추진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전후 비교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연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1,400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억 비용절감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모서리가 둥근 직사각형 5"/>
          <p:cNvSpPr/>
          <p:nvPr/>
        </p:nvSpPr>
        <p:spPr>
          <a:xfrm>
            <a:off x="642960" y="20001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공공입찰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인쇄비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출장비가 막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모서리가 둥근 직사각형 8"/>
          <p:cNvSpPr/>
          <p:nvPr/>
        </p:nvSpPr>
        <p:spPr>
          <a:xfrm>
            <a:off x="642960" y="28040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지방 공공기관은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평가위원 교섭이 어려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모서리가 둥근 직사각형 9"/>
          <p:cNvSpPr/>
          <p:nvPr/>
        </p:nvSpPr>
        <p:spPr>
          <a:xfrm>
            <a:off x="642960" y="36075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안서 대면제출 발표로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공무원 갑질우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모서리가 둥근 직사각형 10"/>
          <p:cNvSpPr/>
          <p:nvPr/>
        </p:nvSpPr>
        <p:spPr>
          <a:xfrm>
            <a:off x="642960" y="44114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오프라인  수기평가의 공정성</a:t>
            </a:r>
            <a:r>
              <a:rPr b="1" lang="en-US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신뢰성 저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모서리가 둥근 직사각형 11"/>
          <p:cNvSpPr/>
          <p:nvPr/>
        </p:nvSpPr>
        <p:spPr>
          <a:xfrm>
            <a:off x="642960" y="52149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중앙조달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협상계약 입찰에만 이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모서리가 둥근 직사각형 12"/>
          <p:cNvSpPr/>
          <p:nvPr/>
        </p:nvSpPr>
        <p:spPr>
          <a:xfrm>
            <a:off x="5117400" y="2000160"/>
            <a:ext cx="3428640" cy="63648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서류 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Paperless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로 인쇄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Zero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化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원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2018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년 이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64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정도 비용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모서리가 둥근 직사각형 13"/>
          <p:cNvSpPr/>
          <p:nvPr/>
        </p:nvSpPr>
        <p:spPr>
          <a:xfrm>
            <a:off x="5117400" y="2755440"/>
            <a:ext cx="3428640" cy="116064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서 온라인 제출 및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화상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이용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위원 교섭 용이하고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무원 비접촉으로 갑질차단 가능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모서리가 둥근 직사각형 15"/>
          <p:cNvSpPr/>
          <p:nvPr/>
        </p:nvSpPr>
        <p:spPr>
          <a:xfrm>
            <a:off x="5117400" y="401184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 평가플랫폼 공동 활용하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전자평가 및 점수공개로 공정성 증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모서리가 둥근 직사각형 16"/>
          <p:cNvSpPr/>
          <p:nvPr/>
        </p:nvSpPr>
        <p:spPr>
          <a:xfrm>
            <a:off x="5117400" y="500076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모든 발주기관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방식까지 적용확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협상계약에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1,40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규모 예산 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사각형 20"/>
          <p:cNvSpPr/>
          <p:nvPr/>
        </p:nvSpPr>
        <p:spPr>
          <a:xfrm>
            <a:off x="315720" y="20718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사각형 21"/>
          <p:cNvSpPr/>
          <p:nvPr/>
        </p:nvSpPr>
        <p:spPr>
          <a:xfrm>
            <a:off x="315720" y="285732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22"/>
          <p:cNvSpPr/>
          <p:nvPr/>
        </p:nvSpPr>
        <p:spPr>
          <a:xfrm>
            <a:off x="315720" y="36432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23"/>
          <p:cNvSpPr/>
          <p:nvPr/>
        </p:nvSpPr>
        <p:spPr>
          <a:xfrm>
            <a:off x="315720" y="448848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24"/>
          <p:cNvSpPr/>
          <p:nvPr/>
        </p:nvSpPr>
        <p:spPr>
          <a:xfrm>
            <a:off x="315720" y="521496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직선 화살표 연결선 26"/>
          <p:cNvCxnSpPr>
            <a:stCxn id="402" idx="3"/>
            <a:endCxn id="407" idx="1"/>
          </p:cNvCxnSpPr>
          <p:nvPr/>
        </p:nvCxnSpPr>
        <p:spPr>
          <a:xfrm>
            <a:off x="4071600" y="2250000"/>
            <a:ext cx="1045800" cy="687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7" name="직선 화살표 연결선 28"/>
          <p:cNvCxnSpPr>
            <a:stCxn id="403" idx="3"/>
            <a:endCxn id="408" idx="1"/>
          </p:cNvCxnSpPr>
          <p:nvPr/>
        </p:nvCxnSpPr>
        <p:spPr>
          <a:xfrm>
            <a:off x="4071600" y="3053880"/>
            <a:ext cx="1045800" cy="28224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8" name="직선 화살표 연결선 30"/>
          <p:cNvCxnSpPr>
            <a:stCxn id="404" idx="3"/>
            <a:endCxn id="408" idx="1"/>
          </p:cNvCxnSpPr>
          <p:nvPr/>
        </p:nvCxnSpPr>
        <p:spPr>
          <a:xfrm flipV="1">
            <a:off x="4071600" y="3335760"/>
            <a:ext cx="1045800" cy="522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9" name="직선 화살표 연결선 32"/>
          <p:cNvCxnSpPr>
            <a:stCxn id="405" idx="3"/>
            <a:endCxn id="409" idx="1"/>
          </p:cNvCxnSpPr>
          <p:nvPr/>
        </p:nvCxnSpPr>
        <p:spPr>
          <a:xfrm flipV="1">
            <a:off x="4071600" y="4440240"/>
            <a:ext cx="1045800" cy="2214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20" name="직선 화살표 연결선 34"/>
          <p:cNvCxnSpPr>
            <a:stCxn id="406" idx="3"/>
            <a:endCxn id="410" idx="1"/>
          </p:cNvCxnSpPr>
          <p:nvPr/>
        </p:nvCxnSpPr>
        <p:spPr>
          <a:xfrm flipV="1">
            <a:off x="4071600" y="5429160"/>
            <a:ext cx="1045800" cy="36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sp>
        <p:nvSpPr>
          <p:cNvPr id="421" name="직사각형 46"/>
          <p:cNvSpPr/>
          <p:nvPr/>
        </p:nvSpPr>
        <p:spPr>
          <a:xfrm>
            <a:off x="4357800" y="2071800"/>
            <a:ext cx="428400" cy="3571560"/>
          </a:xfrm>
          <a:prstGeom prst="rect">
            <a:avLst/>
          </a:prstGeom>
          <a:solidFill>
            <a:srgbClr val="ffc000">
              <a:alpha val="65000"/>
            </a:srgbClr>
          </a:solidFill>
          <a:ln>
            <a:solidFill>
              <a:srgbClr val="000000"/>
            </a:solidFill>
            <a:prstDash val="dashDot"/>
            <a:round/>
          </a:ln>
          <a:effectLst>
            <a:innerShdw blurRad="63500" dir="8100000" dist="50800">
              <a:srgbClr val="000000">
                <a:alpha val="50000"/>
              </a:srgbClr>
            </a:inn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조달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제안평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플랫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67640" y="3069000"/>
            <a:ext cx="8496720" cy="185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7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국민의 손이 미치지 않은 </a:t>
            </a:r>
            <a:r>
              <a:rPr b="1" lang="ko-KR" sz="3200" spc="248" strike="noStrike">
                <a:solidFill>
                  <a:srgbClr val="0070c0"/>
                </a:solidFill>
                <a:latin typeface="HY궁서B"/>
                <a:ea typeface="HY궁서B"/>
              </a:rPr>
              <a:t>가려운 곳</a:t>
            </a: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을 긁어주는 “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효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(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孝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)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손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”과 같다고 생각합니다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무리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가 생각하는 “적극행정”이란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Why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고충사례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6" name="직사각형 5"/>
          <p:cNvSpPr/>
          <p:nvPr/>
        </p:nvSpPr>
        <p:spPr>
          <a:xfrm>
            <a:off x="467640" y="1628640"/>
            <a:ext cx="8271000" cy="1439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1]  “ SW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업 평가위원 섭외에 한숨부터 나와요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회사가 서울에 있을땐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 섭외가 쉽고 해당 분야 전문가도 많았으나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재는 “근처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나눔고딕 ExtraBold"/>
                <a:ea typeface="나눔고딕 ExtraBold"/>
              </a:rPr>
              <a:t> 평가위원들만 계속 섭외가 된다” 하여 일부업체 민원  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원주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정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직사각형 6"/>
          <p:cNvSpPr/>
          <p:nvPr/>
        </p:nvSpPr>
        <p:spPr>
          <a:xfrm>
            <a:off x="474480" y="4797000"/>
            <a:ext cx="8271000" cy="1312920"/>
          </a:xfrm>
          <a:prstGeom prst="rect">
            <a:avLst/>
          </a:prstGeom>
          <a:solidFill>
            <a:srgbClr val="ffffff"/>
          </a:solidFill>
          <a:ln>
            <a:solidFill>
              <a:srgbClr val="d19049">
                <a:lumMod val="75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3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공공기관 입찰은 힘들어요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신용카드밴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Van)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업 입찰 당일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강풍으로 비행기가 제시간에 뜨지 못해 입찰마감 후에  도착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신용카드밴  입찰팀  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직사각형 7"/>
          <p:cNvSpPr/>
          <p:nvPr/>
        </p:nvSpPr>
        <p:spPr>
          <a:xfrm>
            <a:off x="467640" y="3213000"/>
            <a:ext cx="8271000" cy="136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2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접수는 김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 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평가는 서울에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저희는 김천에서 입찰서를 접수하지만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평가는 서울에서 합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박스를 카트에 싣고 서울 평가장으로 옮겨서 평가하는데  힘들어 죽습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김천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과장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Output 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업계반응 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– 사용자 설문조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1" name="직사각형 5"/>
          <p:cNvSpPr/>
          <p:nvPr/>
        </p:nvSpPr>
        <p:spPr>
          <a:xfrm>
            <a:off x="467640" y="1628640"/>
            <a:ext cx="8271000" cy="44110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온라인 제출 및 온라인 평가에 따른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설문조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의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비용감소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 측면이 확실히 </a:t>
            </a:r>
            <a:r>
              <a:rPr b="1" lang="ko-KR" sz="20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있으며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,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제안서 온라인 제출로 인한 시간절약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측면 또한 개선된 사항이라 생각되어집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chemeClr val="dk1"/>
                </a:solidFill>
                <a:uFillTx/>
                <a:latin typeface="Georgia"/>
                <a:ea typeface="나눔고딕 ExtraBold"/>
              </a:rPr>
              <a:t>기업 입장에서 매우 매우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만족합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시간과 비용 모두 세이브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되고 좋습니다 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온라인 평가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)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심사위원의 공정성을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느낄 수 있음 오프라인 제안서 평가는 일부 비정상적 평가가 나오는 경우 많음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제본작업에 수반되는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인건비와 재료비를 많이 절감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할 수 있습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국민의 효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(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孝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)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손이 되도록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노력하겠습니다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0070c0"/>
                </a:solidFill>
                <a:latin typeface="Georgia"/>
              </a:rPr>
              <a:t>감사합니다</a:t>
            </a: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7680" y="27090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ko-KR" sz="3200" spc="-1" strike="noStrike">
                <a:solidFill>
                  <a:srgbClr val="ffffff"/>
                </a:solidFill>
                <a:latin typeface="Georgia"/>
              </a:rPr>
              <a:t>순  서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2000" y="1772640"/>
            <a:ext cx="2361960" cy="38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현황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문제점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방향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성과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마무리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제안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·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 </a:t>
            </a:r>
            <a:r>
              <a:rPr b="1" lang="ko-KR" sz="20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그리고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 건수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개념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정부입찰 에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제안서 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규격서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를 받아 평가를 통한 입찰심사 과정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으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7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여건 이상 입찰공고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양쪽 모서리가 둥근 사각형 106"/>
          <p:cNvSpPr/>
          <p:nvPr/>
        </p:nvSpPr>
        <p:spPr>
          <a:xfrm flipV="1" rot="10800000">
            <a:off x="3500280" y="3810960"/>
            <a:ext cx="1431720" cy="63180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공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나라장터</a:t>
            </a: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서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규격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조달업체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직사각형 38"/>
          <p:cNvSpPr/>
          <p:nvPr/>
        </p:nvSpPr>
        <p:spPr>
          <a:xfrm>
            <a:off x="6606000" y="3571920"/>
            <a:ext cx="161928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평가위원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양쪽 모서리가 둥근 사각형 40"/>
          <p:cNvSpPr/>
          <p:nvPr/>
        </p:nvSpPr>
        <p:spPr>
          <a:xfrm flipV="1" rot="10800000">
            <a:off x="660600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계약체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꺾인 연결선 5"/>
          <p:cNvCxnSpPr>
            <a:stCxn id="299" idx="3"/>
            <a:endCxn id="303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307" name="꺾인 연결선 15"/>
          <p:cNvCxnSpPr>
            <a:stCxn id="303" idx="3"/>
            <a:endCxn id="304" idx="0"/>
          </p:cNvCxnSpPr>
          <p:nvPr/>
        </p:nvCxnSpPr>
        <p:spPr>
          <a:xfrm>
            <a:off x="6589440" y="3017520"/>
            <a:ext cx="82656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308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9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310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311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313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4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5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316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직선 화살표 연결선 12"/>
          <p:cNvCxnSpPr>
            <a:stCxn id="304" idx="2"/>
            <a:endCxn id="305" idx="3"/>
          </p:cNvCxnSpPr>
          <p:nvPr/>
        </p:nvCxnSpPr>
        <p:spPr>
          <a:xfrm flipH="1">
            <a:off x="7414920" y="4114440"/>
            <a:ext cx="108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322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3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5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6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27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5176440" y="482796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TextBox 49"/>
          <p:cNvSpPr/>
          <p:nvPr/>
        </p:nvSpPr>
        <p:spPr>
          <a:xfrm>
            <a:off x="8402400" y="403848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참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926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입찰방식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2294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고건수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서류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요약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자료 등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부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CD2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개 등 요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대면제출</a:t>
            </a: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발주기관을 찾아가 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직접 대면하여 제출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아직도 인쇄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,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대면제출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/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하러 제주도 까지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환경변화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국가기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지방이전 계속 진행 中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행정안전부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과학기술정통부 등 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12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개 </a:t>
            </a:r>
            <a:r>
              <a:rPr b="0" lang="ko-KR" sz="1800" spc="-52" strike="noStrike">
                <a:solidFill>
                  <a:srgbClr val="ff0000"/>
                </a:solidFill>
                <a:latin typeface="맑은 고딕"/>
                <a:ea typeface="맑은 고딕"/>
              </a:rPr>
              <a:t>중앙부처  ‘세종시’로 이전 완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(10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로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공공기관 지방이전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(154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완료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),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향후 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122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추가 검토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주기관 지역과 다른 타지역 입찰자 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60%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83640" y="3717000"/>
            <a:ext cx="2762640" cy="235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2826720" y="5431680"/>
            <a:ext cx="595800" cy="519120"/>
          </a:xfrm>
          <a:prstGeom prst="rect">
            <a:avLst/>
          </a:prstGeom>
          <a:ln w="0">
            <a:noFill/>
          </a:ln>
        </p:spPr>
      </p:pic>
      <p:sp>
        <p:nvSpPr>
          <p:cNvPr id="341" name="직사각형 7"/>
          <p:cNvSpPr/>
          <p:nvPr/>
        </p:nvSpPr>
        <p:spPr>
          <a:xfrm>
            <a:off x="3852000" y="4029480"/>
            <a:ext cx="4692240" cy="14000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달업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안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 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84,99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타  지 역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51,067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일지역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33,931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0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온라인 제출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29,148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자유형 8"/>
          <p:cNvSpPr/>
          <p:nvPr/>
        </p:nvSpPr>
        <p:spPr>
          <a:xfrm>
            <a:off x="683640" y="3863880"/>
            <a:ext cx="2003760" cy="2086560"/>
          </a:xfrm>
          <a:custGeom>
            <a:avLst/>
            <a:gdLst>
              <a:gd name="textAreaLeft" fmla="*/ 0 w 2003760"/>
              <a:gd name="textAreaRight" fmla="*/ 2004120 w 2003760"/>
              <a:gd name="textAreaTop" fmla="*/ 0 h 2086560"/>
              <a:gd name="textAreaBottom" fmla="*/ 2086920 h 2086560"/>
            </a:gdLst>
            <a:ahLst/>
            <a:rect l="textAreaLeft" t="textAreaTop" r="textAreaRight" b="textAreaBottom"/>
            <a:pathLst>
              <a:path w="1556826" h="1696597">
                <a:moveTo>
                  <a:pt x="363557" y="187286"/>
                </a:moveTo>
                <a:lnTo>
                  <a:pt x="363557" y="187286"/>
                </a:lnTo>
                <a:cubicBezTo>
                  <a:pt x="385591" y="161580"/>
                  <a:pt x="404492" y="132817"/>
                  <a:pt x="429658" y="110168"/>
                </a:cubicBezTo>
                <a:cubicBezTo>
                  <a:pt x="441865" y="99182"/>
                  <a:pt x="459643" y="96585"/>
                  <a:pt x="473726" y="88135"/>
                </a:cubicBezTo>
                <a:cubicBezTo>
                  <a:pt x="496434" y="74511"/>
                  <a:pt x="513860" y="49260"/>
                  <a:pt x="539827" y="44067"/>
                </a:cubicBezTo>
                <a:cubicBezTo>
                  <a:pt x="668719" y="18288"/>
                  <a:pt x="508956" y="51784"/>
                  <a:pt x="672029" y="11017"/>
                </a:cubicBezTo>
                <a:cubicBezTo>
                  <a:pt x="690195" y="6476"/>
                  <a:pt x="708752" y="3672"/>
                  <a:pt x="727114" y="0"/>
                </a:cubicBezTo>
                <a:cubicBezTo>
                  <a:pt x="767509" y="3672"/>
                  <a:pt x="808355" y="3968"/>
                  <a:pt x="848299" y="11017"/>
                </a:cubicBezTo>
                <a:cubicBezTo>
                  <a:pt x="871171" y="15053"/>
                  <a:pt x="914400" y="33050"/>
                  <a:pt x="914400" y="33050"/>
                </a:cubicBezTo>
                <a:cubicBezTo>
                  <a:pt x="925417" y="44067"/>
                  <a:pt x="934487" y="57459"/>
                  <a:pt x="947451" y="66101"/>
                </a:cubicBezTo>
                <a:cubicBezTo>
                  <a:pt x="957114" y="72543"/>
                  <a:pt x="970115" y="71924"/>
                  <a:pt x="980502" y="77118"/>
                </a:cubicBezTo>
                <a:cubicBezTo>
                  <a:pt x="992345" y="83039"/>
                  <a:pt x="1002535" y="91807"/>
                  <a:pt x="1013552" y="99152"/>
                </a:cubicBezTo>
                <a:cubicBezTo>
                  <a:pt x="1020897" y="110169"/>
                  <a:pt x="1024358" y="125185"/>
                  <a:pt x="1035586" y="132202"/>
                </a:cubicBezTo>
                <a:cubicBezTo>
                  <a:pt x="1055281" y="144511"/>
                  <a:pt x="1101687" y="154236"/>
                  <a:pt x="1101687" y="154236"/>
                </a:cubicBezTo>
                <a:cubicBezTo>
                  <a:pt x="1164823" y="248937"/>
                  <a:pt x="1089134" y="129127"/>
                  <a:pt x="1134738" y="220337"/>
                </a:cubicBezTo>
                <a:cubicBezTo>
                  <a:pt x="1164820" y="280503"/>
                  <a:pt x="1151174" y="225520"/>
                  <a:pt x="1167788" y="286438"/>
                </a:cubicBezTo>
                <a:cubicBezTo>
                  <a:pt x="1175756" y="315653"/>
                  <a:pt x="1189822" y="374573"/>
                  <a:pt x="1189822" y="374573"/>
                </a:cubicBezTo>
                <a:cubicBezTo>
                  <a:pt x="1186150" y="433330"/>
                  <a:pt x="1178805" y="491972"/>
                  <a:pt x="1178805" y="550843"/>
                </a:cubicBezTo>
                <a:cubicBezTo>
                  <a:pt x="1178805" y="592304"/>
                  <a:pt x="1168735" y="708419"/>
                  <a:pt x="1211856" y="760164"/>
                </a:cubicBezTo>
                <a:cubicBezTo>
                  <a:pt x="1220332" y="770336"/>
                  <a:pt x="1233889" y="774853"/>
                  <a:pt x="1244906" y="782197"/>
                </a:cubicBezTo>
                <a:cubicBezTo>
                  <a:pt x="1271127" y="860860"/>
                  <a:pt x="1247615" y="835416"/>
                  <a:pt x="1299991" y="870332"/>
                </a:cubicBezTo>
                <a:cubicBezTo>
                  <a:pt x="1367608" y="971758"/>
                  <a:pt x="1259225" y="813865"/>
                  <a:pt x="1366092" y="947450"/>
                </a:cubicBezTo>
                <a:cubicBezTo>
                  <a:pt x="1439537" y="1039257"/>
                  <a:pt x="1377108" y="991519"/>
                  <a:pt x="1443210" y="1035585"/>
                </a:cubicBezTo>
                <a:cubicBezTo>
                  <a:pt x="1446882" y="1046602"/>
                  <a:pt x="1447785" y="1058973"/>
                  <a:pt x="1454227" y="1068636"/>
                </a:cubicBezTo>
                <a:cubicBezTo>
                  <a:pt x="1488824" y="1120531"/>
                  <a:pt x="1485279" y="1080664"/>
                  <a:pt x="1509311" y="1134737"/>
                </a:cubicBezTo>
                <a:cubicBezTo>
                  <a:pt x="1518744" y="1155961"/>
                  <a:pt x="1531345" y="1200838"/>
                  <a:pt x="1531345" y="1200838"/>
                </a:cubicBezTo>
                <a:cubicBezTo>
                  <a:pt x="1535017" y="1233889"/>
                  <a:pt x="1536895" y="1267188"/>
                  <a:pt x="1542362" y="1299990"/>
                </a:cubicBezTo>
                <a:cubicBezTo>
                  <a:pt x="1544271" y="1311445"/>
                  <a:pt x="1553379" y="1321428"/>
                  <a:pt x="1553379" y="1333041"/>
                </a:cubicBezTo>
                <a:cubicBezTo>
                  <a:pt x="1553379" y="1397358"/>
                  <a:pt x="1575143" y="1482709"/>
                  <a:pt x="1509311" y="1520327"/>
                </a:cubicBezTo>
                <a:cubicBezTo>
                  <a:pt x="1496165" y="1527839"/>
                  <a:pt x="1479933" y="1527672"/>
                  <a:pt x="1465244" y="1531344"/>
                </a:cubicBezTo>
                <a:cubicBezTo>
                  <a:pt x="1382688" y="1586382"/>
                  <a:pt x="1423730" y="1565577"/>
                  <a:pt x="1344058" y="1597446"/>
                </a:cubicBezTo>
                <a:cubicBezTo>
                  <a:pt x="1333041" y="1608463"/>
                  <a:pt x="1324627" y="1622930"/>
                  <a:pt x="1311008" y="1630496"/>
                </a:cubicBezTo>
                <a:cubicBezTo>
                  <a:pt x="1290705" y="1641775"/>
                  <a:pt x="1266940" y="1645185"/>
                  <a:pt x="1244906" y="1652530"/>
                </a:cubicBezTo>
                <a:cubicBezTo>
                  <a:pt x="1233889" y="1656202"/>
                  <a:pt x="1222243" y="1658354"/>
                  <a:pt x="1211856" y="1663547"/>
                </a:cubicBezTo>
                <a:cubicBezTo>
                  <a:pt x="1197167" y="1670891"/>
                  <a:pt x="1183632" y="1681259"/>
                  <a:pt x="1167788" y="1685580"/>
                </a:cubicBezTo>
                <a:cubicBezTo>
                  <a:pt x="1142736" y="1692412"/>
                  <a:pt x="1116376" y="1692925"/>
                  <a:pt x="1090670" y="1696597"/>
                </a:cubicBezTo>
                <a:cubicBezTo>
                  <a:pt x="1028241" y="1692925"/>
                  <a:pt x="965475" y="1693031"/>
                  <a:pt x="903384" y="1685580"/>
                </a:cubicBezTo>
                <a:cubicBezTo>
                  <a:pt x="873317" y="1681972"/>
                  <a:pt x="815249" y="1663547"/>
                  <a:pt x="815249" y="1663547"/>
                </a:cubicBezTo>
                <a:cubicBezTo>
                  <a:pt x="694951" y="1583349"/>
                  <a:pt x="880405" y="1701632"/>
                  <a:pt x="738131" y="1630496"/>
                </a:cubicBezTo>
                <a:cubicBezTo>
                  <a:pt x="625770" y="1574316"/>
                  <a:pt x="758203" y="1613481"/>
                  <a:pt x="649996" y="1586429"/>
                </a:cubicBezTo>
                <a:cubicBezTo>
                  <a:pt x="548874" y="1485307"/>
                  <a:pt x="650804" y="1572292"/>
                  <a:pt x="341523" y="1542361"/>
                </a:cubicBezTo>
                <a:cubicBezTo>
                  <a:pt x="318405" y="1540124"/>
                  <a:pt x="298132" y="1525193"/>
                  <a:pt x="275422" y="1520327"/>
                </a:cubicBezTo>
                <a:cubicBezTo>
                  <a:pt x="246472" y="1514124"/>
                  <a:pt x="216665" y="1512983"/>
                  <a:pt x="187287" y="1509311"/>
                </a:cubicBezTo>
                <a:cubicBezTo>
                  <a:pt x="169020" y="1481911"/>
                  <a:pt x="155202" y="1464145"/>
                  <a:pt x="143220" y="1432192"/>
                </a:cubicBezTo>
                <a:cubicBezTo>
                  <a:pt x="112733" y="1350892"/>
                  <a:pt x="154820" y="1422050"/>
                  <a:pt x="110169" y="1355074"/>
                </a:cubicBezTo>
                <a:cubicBezTo>
                  <a:pt x="106497" y="1329368"/>
                  <a:pt x="102584" y="1303695"/>
                  <a:pt x="99152" y="1277956"/>
                </a:cubicBezTo>
                <a:cubicBezTo>
                  <a:pt x="95239" y="1248609"/>
                  <a:pt x="94338" y="1218771"/>
                  <a:pt x="88135" y="1189821"/>
                </a:cubicBezTo>
                <a:cubicBezTo>
                  <a:pt x="83269" y="1167111"/>
                  <a:pt x="73446" y="1145754"/>
                  <a:pt x="66102" y="1123720"/>
                </a:cubicBezTo>
                <a:cubicBezTo>
                  <a:pt x="62430" y="1112703"/>
                  <a:pt x="62053" y="1099960"/>
                  <a:pt x="55085" y="1090670"/>
                </a:cubicBezTo>
                <a:lnTo>
                  <a:pt x="22034" y="1046602"/>
                </a:lnTo>
                <a:cubicBezTo>
                  <a:pt x="18362" y="1006207"/>
                  <a:pt x="15053" y="965777"/>
                  <a:pt x="11017" y="925417"/>
                </a:cubicBezTo>
                <a:cubicBezTo>
                  <a:pt x="7708" y="892328"/>
                  <a:pt x="0" y="859519"/>
                  <a:pt x="0" y="826265"/>
                </a:cubicBezTo>
                <a:cubicBezTo>
                  <a:pt x="0" y="705024"/>
                  <a:pt x="4473" y="583773"/>
                  <a:pt x="11017" y="462708"/>
                </a:cubicBezTo>
                <a:cubicBezTo>
                  <a:pt x="11834" y="447589"/>
                  <a:pt x="18749" y="433422"/>
                  <a:pt x="22034" y="418641"/>
                </a:cubicBezTo>
                <a:cubicBezTo>
                  <a:pt x="26096" y="400362"/>
                  <a:pt x="25302" y="380603"/>
                  <a:pt x="33051" y="363556"/>
                </a:cubicBezTo>
                <a:cubicBezTo>
                  <a:pt x="44009" y="339448"/>
                  <a:pt x="77118" y="297455"/>
                  <a:pt x="77118" y="297455"/>
                </a:cubicBezTo>
                <a:cubicBezTo>
                  <a:pt x="80790" y="282766"/>
                  <a:pt x="81364" y="266931"/>
                  <a:pt x="88135" y="253388"/>
                </a:cubicBezTo>
                <a:cubicBezTo>
                  <a:pt x="119235" y="191190"/>
                  <a:pt x="109408" y="220717"/>
                  <a:pt x="154237" y="198303"/>
                </a:cubicBezTo>
                <a:cubicBezTo>
                  <a:pt x="166080" y="192382"/>
                  <a:pt x="175188" y="181647"/>
                  <a:pt x="187287" y="176270"/>
                </a:cubicBezTo>
                <a:cubicBezTo>
                  <a:pt x="208511" y="166837"/>
                  <a:pt x="253388" y="154236"/>
                  <a:pt x="253388" y="154236"/>
                </a:cubicBezTo>
                <a:cubicBezTo>
                  <a:pt x="374049" y="181050"/>
                  <a:pt x="318683" y="176270"/>
                  <a:pt x="418641" y="176270"/>
                </a:cubicBezTo>
                <a:lnTo>
                  <a:pt x="363557" y="187286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821880" y="3850560"/>
            <a:ext cx="1865520" cy="2194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11"/>
          <p:cNvSpPr/>
          <p:nvPr/>
        </p:nvSpPr>
        <p:spPr>
          <a:xfrm>
            <a:off x="3780000" y="5589360"/>
            <a:ext cx="496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대상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 ‘18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이후부터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상반기 까지  협상계약중 제안서 제출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용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인쇄비 및 출장 비용이 막대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디자인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쇄비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본비 등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0 ~ 50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건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일비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식비 등  포함하여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출장비로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대면제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로 공무원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전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접촉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불공정 행위 및 투명성 저해 등 甲乙환경에 노출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오프라인 수기평가는 평가 공정성 저하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의 고른 섭외가 어려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점수 집계는 오류가능성 </a:t>
            </a:r>
            <a:r>
              <a:rPr b="1" lang="en-US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점수 비공개로  평가 공정성 저하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노력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인쇄비용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안서 인쇄비 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0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원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출력 </a:t>
            </a:r>
            <a:r>
              <a:rPr b="1" lang="en-US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ZERO </a:t>
            </a:r>
            <a:r>
              <a:rPr b="1" lang="ko-KR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化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무원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 차단은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 비대면 입찰로 전환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심사와  발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는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온라인 화상평가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350" name="그룹 4"/>
          <p:cNvGrpSpPr/>
          <p:nvPr/>
        </p:nvGrpSpPr>
        <p:grpSpPr>
          <a:xfrm>
            <a:off x="481680" y="3477600"/>
            <a:ext cx="2448000" cy="2421000"/>
            <a:chOff x="481680" y="3477600"/>
            <a:chExt cx="2448000" cy="2421000"/>
          </a:xfrm>
        </p:grpSpPr>
        <p:pic>
          <p:nvPicPr>
            <p:cNvPr id="351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47760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Box 3"/>
            <p:cNvSpPr/>
            <p:nvPr/>
          </p:nvSpPr>
          <p:spPr>
            <a:xfrm>
              <a:off x="611640" y="559584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제안서 출력 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화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그룹 6"/>
          <p:cNvGrpSpPr/>
          <p:nvPr/>
        </p:nvGrpSpPr>
        <p:grpSpPr>
          <a:xfrm>
            <a:off x="3145680" y="3477600"/>
            <a:ext cx="2664000" cy="2439720"/>
            <a:chOff x="3145680" y="3477600"/>
            <a:chExt cx="2664000" cy="2439720"/>
          </a:xfrm>
        </p:grpSpPr>
        <p:pic>
          <p:nvPicPr>
            <p:cNvPr id="354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47760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7"/>
            <p:cNvSpPr/>
            <p:nvPr/>
          </p:nvSpPr>
          <p:spPr>
            <a:xfrm>
              <a:off x="361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대면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비대면 전자제출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그룹 11"/>
          <p:cNvGrpSpPr/>
          <p:nvPr/>
        </p:nvGrpSpPr>
        <p:grpSpPr>
          <a:xfrm>
            <a:off x="6025680" y="3477600"/>
            <a:ext cx="2650320" cy="2439720"/>
            <a:chOff x="6025680" y="3477600"/>
            <a:chExt cx="2650320" cy="2439720"/>
          </a:xfrm>
        </p:grpSpPr>
        <p:pic>
          <p:nvPicPr>
            <p:cNvPr id="357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47760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9"/>
            <p:cNvSpPr/>
            <p:nvPr/>
          </p:nvSpPr>
          <p:spPr>
            <a:xfrm>
              <a:off x="649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오프라인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온라인 평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직사각형 5"/>
          <p:cNvSpPr/>
          <p:nvPr/>
        </p:nvSpPr>
        <p:spPr>
          <a:xfrm>
            <a:off x="323640" y="1845000"/>
            <a:ext cx="855000" cy="101520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정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비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사각형 6"/>
          <p:cNvSpPr/>
          <p:nvPr/>
        </p:nvSpPr>
        <p:spPr>
          <a:xfrm>
            <a:off x="1297440" y="1845000"/>
            <a:ext cx="7450920" cy="10152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[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·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플랫폼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] 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공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/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민간 개방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·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확대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입찰비용 대폭절감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  </a:t>
            </a: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갑질행위 전면차단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직사각형 7"/>
          <p:cNvSpPr/>
          <p:nvPr/>
        </p:nvSpPr>
        <p:spPr>
          <a:xfrm>
            <a:off x="323640" y="3862440"/>
            <a:ext cx="855000" cy="86364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사각형 8"/>
          <p:cNvSpPr/>
          <p:nvPr/>
        </p:nvSpPr>
        <p:spPr>
          <a:xfrm>
            <a:off x="323640" y="4814640"/>
            <a:ext cx="855000" cy="120636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과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양쪽 모서리가 둥근 사각형 9"/>
          <p:cNvSpPr/>
          <p:nvPr/>
        </p:nvSpPr>
        <p:spPr>
          <a:xfrm>
            <a:off x="129492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안서 온라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출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평가 법제도개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양쪽 모서리가 둥근 사각형 10"/>
          <p:cNvSpPr/>
          <p:nvPr/>
        </p:nvSpPr>
        <p:spPr>
          <a:xfrm>
            <a:off x="379476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개방 업무협약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(MOU) 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범사업 추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양쪽 모서리가 둥근 사각형 11"/>
          <p:cNvSpPr/>
          <p:nvPr/>
        </p:nvSpPr>
        <p:spPr>
          <a:xfrm>
            <a:off x="629460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오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사용자 교육 및 홍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12"/>
          <p:cNvSpPr/>
          <p:nvPr/>
        </p:nvSpPr>
        <p:spPr>
          <a:xfrm>
            <a:off x="1294920" y="480384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온라인제출</a:t>
            </a: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법제도 개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이용약관 개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13"/>
          <p:cNvSpPr/>
          <p:nvPr/>
        </p:nvSpPr>
        <p:spPr>
          <a:xfrm>
            <a:off x="379476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이전 공공기관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업무협약</a:t>
            </a:r>
            <a:r>
              <a:rPr b="0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14"/>
          <p:cNvSpPr/>
          <p:nvPr/>
        </p:nvSpPr>
        <p:spPr>
          <a:xfrm>
            <a:off x="628884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⑤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 평가시스템 오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⑥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사용 교육 홍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0"/>
          <p:cNvSpPr/>
          <p:nvPr/>
        </p:nvSpPr>
        <p:spPr>
          <a:xfrm flipV="1" rot="10800000">
            <a:off x="3204000" y="2924640"/>
            <a:ext cx="3464280" cy="863640"/>
          </a:xfrm>
          <a:custGeom>
            <a:avLst/>
            <a:gdLst>
              <a:gd name="textAreaLeft" fmla="*/ 0 w 3464280"/>
              <a:gd name="textAreaRight" fmla="*/ 3464640 w 346428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3840" h="672">
                <a:moveTo>
                  <a:pt x="0" y="672"/>
                </a:moveTo>
                <a:cubicBezTo>
                  <a:pt x="158" y="634"/>
                  <a:pt x="700" y="524"/>
                  <a:pt x="948" y="444"/>
                </a:cubicBezTo>
                <a:cubicBezTo>
                  <a:pt x="1196" y="364"/>
                  <a:pt x="1470" y="234"/>
                  <a:pt x="1488" y="192"/>
                </a:cubicBezTo>
                <a:lnTo>
                  <a:pt x="1056" y="192"/>
                </a:lnTo>
                <a:lnTo>
                  <a:pt x="1920" y="0"/>
                </a:lnTo>
                <a:lnTo>
                  <a:pt x="2736" y="192"/>
                </a:lnTo>
                <a:lnTo>
                  <a:pt x="2352" y="192"/>
                </a:lnTo>
                <a:cubicBezTo>
                  <a:pt x="2361" y="230"/>
                  <a:pt x="2542" y="340"/>
                  <a:pt x="2790" y="420"/>
                </a:cubicBezTo>
                <a:cubicBezTo>
                  <a:pt x="3038" y="500"/>
                  <a:pt x="3621" y="619"/>
                  <a:pt x="3840" y="672"/>
                </a:cubicBezTo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d16349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나눔고딕 ExtraBold"/>
              <a:ea typeface="나눔고딕 ExtraBold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법제도 개선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 온라인 제출 의무화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관련 제도 정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계약예규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「협상에 의한 계약체결기준」 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6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조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안서 등 제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개정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.6.4.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이용약관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청 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e-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안평가 부분 이용에 약관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정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‘18.9.14.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786200" y="3519720"/>
            <a:ext cx="371448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785880" y="3519720"/>
            <a:ext cx="364176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75" name="TextBox 4"/>
          <p:cNvSpPr/>
          <p:nvPr/>
        </p:nvSpPr>
        <p:spPr>
          <a:xfrm>
            <a:off x="210672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계약예규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613260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이용약관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16</TotalTime>
  <Application>LibreOffice/7.4.7.2$Linux_X86_64 LibreOffice_project/40$Build-2</Application>
  <AppVersion>15.0000</AppVersion>
  <Words>1743</Words>
  <Paragraphs>33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33Z</dcterms:modified>
  <cp:revision>317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17</vt:r8>
  </property>
</Properties>
</file>