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hdphoto1.wdp" ContentType="image/vnd.ms-photo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jpeg" ContentType="image/jpe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dt" idx="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115B7D-C1BD-4736-BB95-B6401F0A0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Symbol"/>
              <a:buChar char="Þ"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본 발표자료에 대한 설명을 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안녕하십니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정보기술계약과 고운혁 주무관입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금부터  “조달청 제안 평가 플랫폼” 개방확대 주제로 말씀드립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C7B06E-CD15-4356-A80B-47F9E46A682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먼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현황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나라장터를 통해 제안서를 접수 받은  입찰 공고건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연간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여건 이상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를 제출 받아 평가의 과정을 통해 계약을 체결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276CD9B-7F42-46EC-92DD-6E1729C58B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부분 요청하는 입찰서류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요약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자료 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부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매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계약공무원에게 직접 대면제출로 요청하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AA8B89-FB95-47FB-83E6-0E328337F77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최근 정책환경 변화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국가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은 세종시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공공기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개는 지방혁신도시로 이전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그러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업체는 제안서 제출 및 기술평가하러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서울에서 제주까지도 가야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클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보시는 도표와 같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주기관 지역과 다른 타지역 입찰자 비율이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전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천여 건 중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만건이나 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조달기업은 더 많은 출장비용 필요하게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C42097-9993-40A6-980A-720E272F5BC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환경변화에 따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으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인쇄비용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출장비용 등 입찰비용이 막대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대면제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발표는 계약공무원과 불필요한 사전접촉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을 환경에 노출됩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지방에 있는 오프라인 수기평가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평가위원의 고른 섭외가 어렵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집계오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점수 미공개 등 평가 공정성 등에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문제점을 가지고 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B554DDD-1275-45F1-9D7E-2D3DA958CE9E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문제점에 대한  조달청의 개선 노력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오프라인 제안서 제출 및 평가를 온라인으로 전면 개방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원으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비대면 입찰서 제출로 인하여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갑질 환경 차단에 노력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029E9C-99DD-46D9-8B99-96E91D869C6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범사업을 통해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표준화된 시스템으로 기능을 개선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한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 사용자 권역별 교육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조달교육원에 정규교육 과정을 제공하였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2E5A1C-EEA2-4EF6-9112-8212FF29CD7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이런 적극행정의 노력으로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시스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도 개선 시점인 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년 하반기부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제안서 온라인 제출건은 대폭 증가되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인쇄비용과 출장비용으로 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억원의 비용절감이 되었습니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6F622F9-68E4-42C9-9749-6547069C172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006106-E594-4AD6-A35B-7F179EEC98A6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B69CF6-3E93-4A2B-BE89-0438A16E2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543B5-2767-4D61-AA9E-A95CF6B6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62A537-A742-4113-92BD-9757C207A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7D1B16D-226B-48E0-808A-A67A96D7D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F0EB7F-0B47-42DE-9EE5-A8FB525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A37D82-5A46-4664-AC22-E9B2A0EA2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0824EE-0DAB-474D-BC87-7177927C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F2E122-2458-475F-AE20-3C03C60F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EBE5C1-9BFD-44A2-B6A9-6838B743C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19F38C-EF55-4626-BDF6-EA3C97F73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FCF5B74-63BA-40E9-9533-7B39595C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5932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50280" y="274320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836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5932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50280" y="3617280"/>
            <a:ext cx="208620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F7A8A6-29B6-4512-9D21-C0859B20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722160" y="533520"/>
            <a:ext cx="7772040" cy="706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167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8640" y="361728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6836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88640" y="2743200"/>
            <a:ext cx="316188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68360" y="3617280"/>
            <a:ext cx="6479640" cy="7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직사각형 18"/>
          <p:cNvSpPr/>
          <p:nvPr/>
        </p:nvSpPr>
        <p:spPr>
          <a:xfrm>
            <a:off x="8991720" y="28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" name="직사각형 15"/>
          <p:cNvSpPr/>
          <p:nvPr/>
        </p:nvSpPr>
        <p:spPr>
          <a:xfrm>
            <a:off x="0" y="0"/>
            <a:ext cx="9143640" cy="2514240"/>
          </a:xfrm>
          <a:prstGeom prst="rect">
            <a:avLst/>
          </a:prstGeom>
          <a:solidFill>
            <a:schemeClr val="accent5">
              <a:lumMod val="60000"/>
              <a:lumOff val="4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3" name="직사각형 11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직선 연결선 6"/>
          <p:cNvSpPr/>
          <p:nvPr/>
        </p:nvSpPr>
        <p:spPr>
          <a:xfrm>
            <a:off x="155160" y="2419920"/>
            <a:ext cx="883332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직사각형 9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040" cy="175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chemeClr val="accent1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c5d1d7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7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8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9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0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1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2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3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4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5" name="타원 9"/>
          <p:cNvSpPr/>
          <p:nvPr/>
        </p:nvSpPr>
        <p:spPr>
          <a:xfrm>
            <a:off x="4316400" y="1008360"/>
            <a:ext cx="499680" cy="49968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ko-KR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마스터 제목 스타일 편집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dt" idx="3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ftr" idx="4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body"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ko-KR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마스터 텍스트 스타일을 편집합니다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ko-KR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둘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셋째 수준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8c7b70"/>
              </a:buClr>
              <a:buSzPct val="70000"/>
              <a:buFont typeface="Wingdings" charset="2"/>
              <a:buChar char=""/>
            </a:pPr>
            <a:r>
              <a:rPr b="0" lang="ko-KR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넷째 수준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8fb08c"/>
              </a:buClr>
              <a:buFont typeface="Symbol" charset="2"/>
              <a:buChar char=""/>
            </a:pPr>
            <a:r>
              <a:rPr b="0" lang="ko-KR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다섯째 수준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4349520" y="1038600"/>
            <a:ext cx="466200" cy="44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7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직사각형 16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8" name="직사각형 15"/>
          <p:cNvSpPr/>
          <p:nvPr/>
        </p:nvSpPr>
        <p:spPr>
          <a:xfrm>
            <a:off x="0" y="0"/>
            <a:ext cx="9143640" cy="13928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9" name="직사각형 17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0" name="직사각형 18"/>
          <p:cNvSpPr/>
          <p:nvPr/>
        </p:nvSpPr>
        <p:spPr>
          <a:xfrm>
            <a:off x="899172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1" name="직사각형 8"/>
          <p:cNvSpPr/>
          <p:nvPr/>
        </p:nvSpPr>
        <p:spPr>
          <a:xfrm>
            <a:off x="149400" y="638856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2" name="직사각형 7"/>
          <p:cNvSpPr/>
          <p:nvPr/>
        </p:nvSpPr>
        <p:spPr>
          <a:xfrm>
            <a:off x="152280" y="15552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3" name="직선 연결선 9"/>
          <p:cNvSpPr/>
          <p:nvPr/>
        </p:nvSpPr>
        <p:spPr>
          <a:xfrm>
            <a:off x="152280" y="1276560"/>
            <a:ext cx="8832960" cy="360"/>
          </a:xfrm>
          <a:prstGeom prst="line">
            <a:avLst/>
          </a:prstGeom>
          <a:ln w="9525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4" name="타원 11"/>
          <p:cNvSpPr/>
          <p:nvPr/>
        </p:nvSpPr>
        <p:spPr>
          <a:xfrm>
            <a:off x="4267080" y="9561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5" name="타원 14"/>
          <p:cNvSpPr/>
          <p:nvPr/>
        </p:nvSpPr>
        <p:spPr>
          <a:xfrm>
            <a:off x="4361760" y="10504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16" name="직사각형 16"/>
          <p:cNvSpPr/>
          <p:nvPr/>
        </p:nvSpPr>
        <p:spPr>
          <a:xfrm>
            <a:off x="0" y="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7" name="직사각형 14"/>
          <p:cNvSpPr/>
          <p:nvPr/>
        </p:nvSpPr>
        <p:spPr>
          <a:xfrm>
            <a:off x="0" y="670572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8" name="직사각형 15"/>
          <p:cNvSpPr/>
          <p:nvPr/>
        </p:nvSpPr>
        <p:spPr>
          <a:xfrm>
            <a:off x="0" y="0"/>
            <a:ext cx="9143640" cy="15192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9" name="직사각형 17"/>
          <p:cNvSpPr/>
          <p:nvPr/>
        </p:nvSpPr>
        <p:spPr>
          <a:xfrm>
            <a:off x="8991720" y="19080"/>
            <a:ext cx="151920" cy="68576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0" name="직사각형 18"/>
          <p:cNvSpPr/>
          <p:nvPr/>
        </p:nvSpPr>
        <p:spPr>
          <a:xfrm>
            <a:off x="152280" y="2286000"/>
            <a:ext cx="8832600" cy="3045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1" name="직사각형 11"/>
          <p:cNvSpPr/>
          <p:nvPr/>
        </p:nvSpPr>
        <p:spPr>
          <a:xfrm>
            <a:off x="155520" y="142200"/>
            <a:ext cx="8832600" cy="2139480"/>
          </a:xfrm>
          <a:prstGeom prst="rect">
            <a:avLst/>
          </a:prstGeom>
          <a:solidFill>
            <a:schemeClr val="accent5">
              <a:lumMod val="75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1368360" y="2743200"/>
            <a:ext cx="6479640" cy="167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1" lang="ko-KR" sz="1600" spc="248" strike="noStrike" cap="all">
                <a:solidFill>
                  <a:srgbClr val="c5d1d7"/>
                </a:solidFill>
                <a:latin typeface="Georgia"/>
              </a:rPr>
              <a:t>마스터 텍스트 스타일을 편집합니다</a:t>
            </a:r>
            <a:endParaRPr b="0" lang="en-US" sz="1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3" name="직사각형 12"/>
          <p:cNvSpPr/>
          <p:nvPr/>
        </p:nvSpPr>
        <p:spPr>
          <a:xfrm>
            <a:off x="146160" y="6391800"/>
            <a:ext cx="8832600" cy="3092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4" name="직사각형 13"/>
          <p:cNvSpPr/>
          <p:nvPr/>
        </p:nvSpPr>
        <p:spPr>
          <a:xfrm>
            <a:off x="152280" y="152280"/>
            <a:ext cx="8832600" cy="6546600"/>
          </a:xfrm>
          <a:prstGeom prst="rect">
            <a:avLst/>
          </a:prstGeom>
          <a:noFill/>
          <a:ln w="9525">
            <a:solidFill>
              <a:srgbClr val="8cadae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04920" y="6410880"/>
            <a:ext cx="358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6"/>
          </p:nvPr>
        </p:nvSpPr>
        <p:spPr>
          <a:xfrm>
            <a:off x="5791320" y="6405120"/>
            <a:ext cx="30445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직선 연결선 7"/>
          <p:cNvSpPr/>
          <p:nvPr/>
        </p:nvSpPr>
        <p:spPr>
          <a:xfrm>
            <a:off x="152280" y="2438280"/>
            <a:ext cx="8832960" cy="360"/>
          </a:xfrm>
          <a:prstGeom prst="line">
            <a:avLst/>
          </a:prstGeom>
          <a:ln w="11430">
            <a:solidFill>
              <a:srgbClr val="8cadae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28" name="타원 9"/>
          <p:cNvSpPr/>
          <p:nvPr/>
        </p:nvSpPr>
        <p:spPr>
          <a:xfrm>
            <a:off x="4267080" y="2115360"/>
            <a:ext cx="609120" cy="60912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29" name="타원 10"/>
          <p:cNvSpPr/>
          <p:nvPr/>
        </p:nvSpPr>
        <p:spPr>
          <a:xfrm>
            <a:off x="4361760" y="2209680"/>
            <a:ext cx="420120" cy="42012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8cadae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7"/>
          </p:nvPr>
        </p:nvSpPr>
        <p:spPr>
          <a:xfrm>
            <a:off x="4343400" y="2199600"/>
            <a:ext cx="45684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6d8687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F7CA1FC-0D98-46F4-9813-E3BEB4D086AE}" type="slidenum">
              <a:rPr b="0" lang="en-US" sz="1600" spc="-1" strike="noStrike">
                <a:solidFill>
                  <a:srgbClr val="6d8687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722160" y="533520"/>
            <a:ext cx="7772040" cy="152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ko-KR" sz="4200" spc="-1" strike="noStrike">
                <a:solidFill>
                  <a:srgbClr val="ffffff"/>
                </a:solidFill>
                <a:latin typeface="Georgia"/>
              </a:rPr>
              <a:t>마스터 제목 스타일 편집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microsoft.com/office/2007/relationships/hdphoto" Target="../media/hdphoto1.wdp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tmp/in/Rec%2009-13-19_002_screen_video_sys_audio.avi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2286000" y="3643200"/>
            <a:ext cx="43200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algn="ctr">
              <a:lnSpc>
                <a:spcPct val="100000"/>
              </a:lnSpc>
              <a:spcBef>
                <a:spcPts val="281"/>
              </a:spcBef>
              <a:tabLst>
                <a:tab algn="l" pos="0"/>
              </a:tabLst>
            </a:pPr>
            <a:r>
              <a:rPr b="1" lang="en-US" sz="1400" spc="248" strike="noStrike" cap="all">
                <a:solidFill>
                  <a:srgbClr val="c5d1d7"/>
                </a:solidFill>
                <a:latin typeface="Georgi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Republic of Korea</a:t>
            </a:r>
            <a:br>
              <a:rPr sz="2400"/>
            </a:br>
            <a:r>
              <a:rPr b="1" lang="en-US" sz="2400" spc="248" strike="noStrike" cap="all">
                <a:solidFill>
                  <a:srgbClr val="000000"/>
                </a:solidFill>
                <a:latin typeface="Georgia"/>
              </a:rPr>
              <a:t>“PP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79640" y="188640"/>
            <a:ext cx="8784720" cy="23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5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HY헤드라인M"/>
              </a:rPr>
              <a:t>Broadening Access to Public Procurement Service : Online Proposal and Evaluation Platform(e-ordering system) </a:t>
            </a:r>
            <a:r>
              <a:rPr b="1" lang="en-US" sz="32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6" name="직사각형 3"/>
          <p:cNvSpPr/>
          <p:nvPr/>
        </p:nvSpPr>
        <p:spPr>
          <a:xfrm>
            <a:off x="467640" y="3070800"/>
            <a:ext cx="8496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Expect to save KRW 140 billion annually when using all public institutions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직사각형 19"/>
          <p:cNvSpPr/>
          <p:nvPr/>
        </p:nvSpPr>
        <p:spPr>
          <a:xfrm>
            <a:off x="467280" y="2727000"/>
            <a:ext cx="2823120" cy="2742120"/>
          </a:xfrm>
          <a:prstGeom prst="rect">
            <a:avLst/>
          </a:prstGeom>
          <a:solidFill>
            <a:schemeClr val="bg2">
              <a:lumMod val="20000"/>
              <a:lumOff val="80000"/>
            </a:schemeClr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Proposals, evaluations and cases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pt) The bidding process through evaluation after receiving the proposal (standard) from the government bidding, and announced more than 70,000 bids per year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0" name="양쪽 모서리가 둥근 사각형 101"/>
          <p:cNvSpPr/>
          <p:nvPr/>
        </p:nvSpPr>
        <p:spPr>
          <a:xfrm flipV="1" rot="10800000">
            <a:off x="612000" y="319824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협상계약</a:t>
            </a:r>
            <a:r>
              <a:rPr b="1" lang="en-US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양쪽 모서리가 둥근 사각형 106"/>
          <p:cNvSpPr/>
          <p:nvPr/>
        </p:nvSpPr>
        <p:spPr>
          <a:xfrm flipV="1" rot="10800000">
            <a:off x="3500280" y="3811680"/>
            <a:ext cx="1431720" cy="73368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Bidding Noti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55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Georgia"/>
                <a:ea typeface="나눔고딕 ExtraBold"/>
              </a:rPr>
              <a:t>Off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양쪽 모서리가 둥근 사각형 198"/>
          <p:cNvSpPr/>
          <p:nvPr/>
        </p:nvSpPr>
        <p:spPr>
          <a:xfrm flipV="1" rot="10800000">
            <a:off x="612000" y="427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단계경쟁 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양쪽 모서리가 둥근 사각형 199"/>
          <p:cNvSpPr/>
          <p:nvPr/>
        </p:nvSpPr>
        <p:spPr>
          <a:xfrm flipV="1" rot="10800000">
            <a:off x="612000" y="3735000"/>
            <a:ext cx="1613520" cy="434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ff0000"/>
                </a:solidFill>
                <a:latin typeface="HY견고딕"/>
                <a:ea typeface="HY견고딕"/>
              </a:rPr>
              <a:t>규격가격동시입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양쪽 모서리가 둥근 사각형 200"/>
          <p:cNvSpPr/>
          <p:nvPr/>
        </p:nvSpPr>
        <p:spPr>
          <a:xfrm flipV="1" rot="10800000">
            <a:off x="612000" y="4818600"/>
            <a:ext cx="1613520" cy="506880"/>
          </a:xfrm>
          <a:prstGeom prst="round2SameRect">
            <a:avLst>
              <a:gd name="adj1" fmla="val 0"/>
              <a:gd name="adj2" fmla="val 0"/>
            </a:avLst>
          </a:prstGeom>
          <a:solidFill>
            <a:srgbClr val="eaeaea"/>
          </a:solidFill>
          <a:ln>
            <a:solidFill>
              <a:srgbClr val="000000">
                <a:lumMod val="95000"/>
                <a:lumOff val="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외자협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직사각형 37"/>
          <p:cNvSpPr/>
          <p:nvPr/>
        </p:nvSpPr>
        <p:spPr>
          <a:xfrm>
            <a:off x="4626000" y="2643120"/>
            <a:ext cx="1963440" cy="748440"/>
          </a:xfrm>
          <a:prstGeom prst="rect">
            <a:avLst/>
          </a:prstGeom>
          <a:solidFill>
            <a:srgbClr val="000000"/>
          </a:solidFill>
          <a:ln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Submit propos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HY견고딕"/>
                <a:ea typeface="HY견고딕"/>
              </a:rPr>
              <a:t>(</a:t>
            </a:r>
            <a:r>
              <a:rPr b="0" lang="en-US" sz="1400" spc="-1" strike="noStrike">
                <a:solidFill>
                  <a:schemeClr val="lt1"/>
                </a:solidFill>
                <a:latin typeface="Georgia"/>
                <a:ea typeface="HY견고딕"/>
              </a:rPr>
              <a:t>Venture busines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직사각형 38"/>
          <p:cNvSpPr/>
          <p:nvPr/>
        </p:nvSpPr>
        <p:spPr>
          <a:xfrm>
            <a:off x="6606000" y="3571920"/>
            <a:ext cx="1708920" cy="542160"/>
          </a:xfrm>
          <a:prstGeom prst="rect">
            <a:avLst/>
          </a:prstGeom>
          <a:solidFill>
            <a:srgbClr val="000000"/>
          </a:solidFill>
          <a:ln>
            <a:solidFill>
              <a:srgbClr val="000000"/>
            </a:solidFill>
            <a:round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KoPub돋움체 Light"/>
                <a:ea typeface="KoPub돋움체 Light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Proposal Evaluation</a:t>
            </a:r>
            <a:r>
              <a:rPr b="0" lang="en-US" sz="1100" spc="-1" strike="noStrike">
                <a:solidFill>
                  <a:schemeClr val="lt1"/>
                </a:solidFill>
                <a:latin typeface="Georgia"/>
                <a:ea typeface="KoPub돋움체 Light"/>
              </a:rPr>
              <a:t>, (Evaluation Committee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양쪽 모서리가 둥근 사각형 40"/>
          <p:cNvSpPr/>
          <p:nvPr/>
        </p:nvSpPr>
        <p:spPr>
          <a:xfrm flipV="1" rot="10800000">
            <a:off x="6653880" y="4947120"/>
            <a:ext cx="1619280" cy="503640"/>
          </a:xfrm>
          <a:prstGeom prst="round2SameRect">
            <a:avLst>
              <a:gd name="adj1" fmla="val 0"/>
              <a:gd name="adj2" fmla="val 0"/>
            </a:avLst>
          </a:prstGeom>
          <a:solidFill>
            <a:schemeClr val="tx2">
              <a:lumMod val="90000"/>
            </a:schemeClr>
          </a:solidFill>
          <a:ln>
            <a:solidFill>
              <a:srgbClr val="000000">
                <a:lumMod val="50000"/>
                <a:lumOff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꺾인 연결선 5"/>
          <p:cNvCxnSpPr>
            <a:stCxn id="181" idx="3"/>
            <a:endCxn id="185" idx="1"/>
          </p:cNvCxnSpPr>
          <p:nvPr/>
        </p:nvCxnSpPr>
        <p:spPr>
          <a:xfrm flipV="1">
            <a:off x="4215960" y="3017520"/>
            <a:ext cx="410040" cy="7938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cxnSp>
        <p:nvCxnSpPr>
          <p:cNvPr id="189" name="꺾인 연결선 15"/>
          <p:cNvCxnSpPr>
            <a:stCxn id="185" idx="3"/>
            <a:endCxn id="186" idx="0"/>
          </p:cNvCxnSpPr>
          <p:nvPr/>
        </p:nvCxnSpPr>
        <p:spPr>
          <a:xfrm>
            <a:off x="6589440" y="3017520"/>
            <a:ext cx="871200" cy="554400"/>
          </a:xfrm>
          <a:prstGeom prst="bentConnector2">
            <a:avLst/>
          </a:prstGeom>
          <a:ln>
            <a:solidFill>
              <a:srgbClr val="000000"/>
            </a:solidFill>
            <a:prstDash val="sysDash"/>
            <a:round/>
            <a:tailEnd len="med" type="arrow" w="med"/>
          </a:ln>
        </p:spPr>
      </p:cxnSp>
      <p:pic>
        <p:nvPicPr>
          <p:cNvPr id="190" name="그림 69" descr=""/>
          <p:cNvPicPr/>
          <p:nvPr/>
        </p:nvPicPr>
        <p:blipFill>
          <a:blip r:embed="rId1"/>
          <a:stretch/>
        </p:blipFill>
        <p:spPr>
          <a:xfrm>
            <a:off x="4902120" y="3507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191" name="그림 72" descr=""/>
          <p:cNvPicPr/>
          <p:nvPr/>
        </p:nvPicPr>
        <p:blipFill>
          <a:blip r:embed="rId2"/>
          <a:stretch/>
        </p:blipFill>
        <p:spPr>
          <a:xfrm>
            <a:off x="3730320" y="4545360"/>
            <a:ext cx="1164600" cy="1164600"/>
          </a:xfrm>
          <a:prstGeom prst="rect">
            <a:avLst/>
          </a:prstGeom>
          <a:ln w="0">
            <a:noFill/>
          </a:ln>
        </p:spPr>
      </p:pic>
      <p:grpSp>
        <p:nvGrpSpPr>
          <p:cNvPr id="192" name="그룹 276"/>
          <p:cNvGrpSpPr/>
          <p:nvPr/>
        </p:nvGrpSpPr>
        <p:grpSpPr>
          <a:xfrm>
            <a:off x="8244720" y="2787120"/>
            <a:ext cx="630720" cy="710280"/>
            <a:chOff x="8244720" y="2787120"/>
            <a:chExt cx="630720" cy="710280"/>
          </a:xfrm>
        </p:grpSpPr>
        <p:sp>
          <p:nvSpPr>
            <p:cNvPr id="193" name="직사각형 32"/>
            <p:cNvSpPr/>
            <p:nvPr/>
          </p:nvSpPr>
          <p:spPr>
            <a:xfrm>
              <a:off x="8363880" y="3255480"/>
              <a:ext cx="48600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00000"/>
                </a:lnSpc>
              </a:pPr>
              <a:r>
                <a:rPr b="1" lang="ko-KR" sz="1000" spc="-1" strike="noStrike">
                  <a:solidFill>
                    <a:srgbClr val="000000"/>
                  </a:solidFill>
                  <a:latin typeface="나눔고딕 ExtraBold"/>
                  <a:ea typeface="나눔고딕 ExtraBold"/>
                </a:rPr>
                <a:t>평가위원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그룹 5"/>
            <p:cNvGrpSpPr/>
            <p:nvPr/>
          </p:nvGrpSpPr>
          <p:grpSpPr>
            <a:xfrm>
              <a:off x="8244720" y="2787120"/>
              <a:ext cx="630720" cy="420120"/>
              <a:chOff x="8244720" y="2787120"/>
              <a:chExt cx="630720" cy="420120"/>
            </a:xfrm>
          </p:grpSpPr>
          <p:pic>
            <p:nvPicPr>
              <p:cNvPr id="195" name="Picture 6" descr="MCj04326210000[1]"/>
              <p:cNvPicPr/>
              <p:nvPr/>
            </p:nvPicPr>
            <p:blipFill>
              <a:blip r:embed="rId3"/>
              <a:stretch/>
            </p:blipFill>
            <p:spPr>
              <a:xfrm flipH="1">
                <a:off x="8244720" y="2851560"/>
                <a:ext cx="312840" cy="35568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6" name="Picture 3" descr="C:\Documents and Settings\성원\Local Settings\Temporary Internet Files\Content.IE5\3PZ8LD36\MC900432626[1].png"/>
              <p:cNvPicPr/>
              <p:nvPr/>
            </p:nvPicPr>
            <p:blipFill>
              <a:blip r:embed="rId4"/>
              <a:stretch/>
            </p:blipFill>
            <p:spPr>
              <a:xfrm flipH="1">
                <a:off x="8401320" y="2787120"/>
                <a:ext cx="318240" cy="356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97" name="Picture 2" descr="C:\Documents and Settings\성원\Local Settings\Temporary Internet Files\Content.IE5\UBULZ14N\MC900432622[1].png"/>
              <p:cNvPicPr/>
              <p:nvPr/>
            </p:nvPicPr>
            <p:blipFill>
              <a:blip r:embed="rId5"/>
              <a:stretch/>
            </p:blipFill>
            <p:spPr>
              <a:xfrm flipH="1">
                <a:off x="8560800" y="2853360"/>
                <a:ext cx="314640" cy="353520"/>
              </a:xfrm>
              <a:prstGeom prst="rect">
                <a:avLst/>
              </a:prstGeom>
              <a:ln w="9525">
                <a:noFill/>
              </a:ln>
            </p:spPr>
          </p:pic>
        </p:grpSp>
      </p:grpSp>
      <p:sp>
        <p:nvSpPr>
          <p:cNvPr id="198" name="TextBox 4"/>
          <p:cNvSpPr/>
          <p:nvPr/>
        </p:nvSpPr>
        <p:spPr>
          <a:xfrm>
            <a:off x="2328480" y="322812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42,7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7"/>
          <p:cNvSpPr/>
          <p:nvPr/>
        </p:nvSpPr>
        <p:spPr>
          <a:xfrm>
            <a:off x="2313360" y="4313520"/>
            <a:ext cx="749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1,8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8"/>
          <p:cNvSpPr/>
          <p:nvPr/>
        </p:nvSpPr>
        <p:spPr>
          <a:xfrm>
            <a:off x="2324520" y="377424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25,5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9"/>
          <p:cNvSpPr/>
          <p:nvPr/>
        </p:nvSpPr>
        <p:spPr>
          <a:xfrm>
            <a:off x="2318760" y="4857480"/>
            <a:ext cx="4356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39"/>
          <p:cNvSpPr/>
          <p:nvPr/>
        </p:nvSpPr>
        <p:spPr>
          <a:xfrm>
            <a:off x="323640" y="5672160"/>
            <a:ext cx="460800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* ‘18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년도 나라장터 입찰공고 현황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총 </a:t>
            </a:r>
            <a:r>
              <a:rPr b="1" lang="en-US" sz="1200" spc="-1" strike="noStrike">
                <a:solidFill>
                  <a:srgbClr val="000000"/>
                </a:solidFill>
                <a:latin typeface="Georgia"/>
              </a:rPr>
              <a:t>70,223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건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Georgia"/>
              </a:rPr>
              <a:t>재공고  포함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직선 화살표 연결선 12"/>
          <p:cNvCxnSpPr>
            <a:stCxn id="186" idx="2"/>
            <a:endCxn id="187" idx="3"/>
          </p:cNvCxnSpPr>
          <p:nvPr/>
        </p:nvCxnSpPr>
        <p:spPr>
          <a:xfrm>
            <a:off x="7460280" y="4114440"/>
            <a:ext cx="3240" cy="833040"/>
          </a:xfrm>
          <a:prstGeom prst="straightConnector1">
            <a:avLst/>
          </a:prstGeom>
          <a:ln w="28575">
            <a:solidFill>
              <a:srgbClr val="000000"/>
            </a:solidFill>
            <a:prstDash val="dash"/>
            <a:round/>
            <a:tailEnd len="med" type="arrow" w="med"/>
          </a:ln>
        </p:spPr>
      </p:cxnSp>
      <p:pic>
        <p:nvPicPr>
          <p:cNvPr id="204" name="그림 42" descr=""/>
          <p:cNvPicPr/>
          <p:nvPr/>
        </p:nvPicPr>
        <p:blipFill>
          <a:blip r:embed="rId6"/>
          <a:stretch/>
        </p:blipFill>
        <p:spPr>
          <a:xfrm>
            <a:off x="5228280" y="38926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그림 43" descr=""/>
          <p:cNvPicPr/>
          <p:nvPr/>
        </p:nvPicPr>
        <p:blipFill>
          <a:blip r:embed="rId7"/>
          <a:stretch/>
        </p:blipFill>
        <p:spPr>
          <a:xfrm>
            <a:off x="5622120" y="40114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그림 44" descr=""/>
          <p:cNvPicPr/>
          <p:nvPr/>
        </p:nvPicPr>
        <p:blipFill>
          <a:blip r:embed="rId8"/>
          <a:stretch/>
        </p:blipFill>
        <p:spPr>
          <a:xfrm>
            <a:off x="5262120" y="3363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46" descr=""/>
          <p:cNvPicPr/>
          <p:nvPr/>
        </p:nvPicPr>
        <p:blipFill>
          <a:blip r:embed="rId9"/>
          <a:stretch/>
        </p:blipFill>
        <p:spPr>
          <a:xfrm>
            <a:off x="5610240" y="343512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48" descr=""/>
          <p:cNvPicPr/>
          <p:nvPr/>
        </p:nvPicPr>
        <p:blipFill>
          <a:blip r:embed="rId10"/>
          <a:stretch/>
        </p:blipFill>
        <p:spPr>
          <a:xfrm>
            <a:off x="5866560" y="360864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209" name="굽은 화살표 14"/>
          <p:cNvSpPr/>
          <p:nvPr/>
        </p:nvSpPr>
        <p:spPr>
          <a:xfrm rot="10800000">
            <a:off x="4847400" y="4745880"/>
            <a:ext cx="1092600" cy="70560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gradFill rotWithShape="0">
            <a:gsLst>
              <a:gs pos="48000">
                <a:srgbClr val="da5d3e"/>
              </a:gs>
              <a:gs pos="100000">
                <a:srgbClr val="b94e34"/>
              </a:gs>
            </a:gsLst>
            <a:lin ang="108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70c0"/>
              </a:solidFill>
              <a:latin typeface="Georgia"/>
            </a:endParaRPr>
          </a:p>
        </p:txBody>
      </p:sp>
      <p:sp>
        <p:nvSpPr>
          <p:cNvPr id="210" name="TextBox 16"/>
          <p:cNvSpPr/>
          <p:nvPr/>
        </p:nvSpPr>
        <p:spPr>
          <a:xfrm>
            <a:off x="5041080" y="4827960"/>
            <a:ext cx="1418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ubmi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굽은 화살표 18"/>
          <p:cNvSpPr/>
          <p:nvPr/>
        </p:nvSpPr>
        <p:spPr>
          <a:xfrm rot="10800000">
            <a:off x="8316720" y="3525840"/>
            <a:ext cx="402840" cy="485640"/>
          </a:xfrm>
          <a:prstGeom prst="bentArrow">
            <a:avLst>
              <a:gd name="adj1" fmla="val 25000"/>
              <a:gd name="adj2" fmla="val 25000"/>
              <a:gd name="adj3" fmla="val 25000"/>
              <a:gd name="adj4" fmla="val 4375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2" name="TextBox 49"/>
          <p:cNvSpPr/>
          <p:nvPr/>
        </p:nvSpPr>
        <p:spPr>
          <a:xfrm>
            <a:off x="8297280" y="4038480"/>
            <a:ext cx="8791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tt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/>
          <p:cNvSpPr/>
          <p:nvPr/>
        </p:nvSpPr>
        <p:spPr>
          <a:xfrm>
            <a:off x="611640" y="2833200"/>
            <a:ext cx="150372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Bidding 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 typ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41"/>
          <p:cNvSpPr/>
          <p:nvPr/>
        </p:nvSpPr>
        <p:spPr>
          <a:xfrm>
            <a:off x="2195640" y="2833200"/>
            <a:ext cx="10076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Georgia"/>
                <a:ea typeface="HY견고딕"/>
              </a:rPr>
              <a:t>Number</a:t>
            </a:r>
            <a:r>
              <a:rPr b="1" lang="en-US" sz="1100" spc="-1" strike="noStrike">
                <a:solidFill>
                  <a:srgbClr val="000000"/>
                </a:solidFill>
                <a:latin typeface="HY견고딕"/>
                <a:ea typeface="HY견고딕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documents) Request for 10 copies including proposal, summary, and presentation materials, 2 CD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18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(Face-to-face submission) Visit the client and submit it face to face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Still print, face-to-face?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785880" y="3429000"/>
            <a:ext cx="3571560" cy="23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2" descr=""/>
          <p:cNvPicPr/>
          <p:nvPr/>
        </p:nvPicPr>
        <p:blipFill>
          <a:blip r:embed="rId2"/>
          <a:stretch/>
        </p:blipFill>
        <p:spPr>
          <a:xfrm>
            <a:off x="4590720" y="3429000"/>
            <a:ext cx="3722040" cy="235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rmAutofit fontScale="78000"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Status) To bid / evaluate to Jeju Island!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Environmental change) Local transfer of national and public institution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Completed relocation to 12 central ministries, including the Ministry of Public Administration and Security and the Ministry of Science, Technology and Information.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"/>
            </a:pPr>
            <a:r>
              <a:rPr b="1" lang="en-US" sz="2000" spc="-1" strike="noStrike">
                <a:solidFill>
                  <a:srgbClr val="0d0d0d"/>
                </a:solidFill>
                <a:latin typeface="맑은 고딕"/>
                <a:ea typeface="맑은 고딕"/>
              </a:rPr>
              <a:t>Local transfer of public institutions to 154 regional innovation cities (completed 154), additional 122 review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1" name="TextBox 10"/>
          <p:cNvSpPr/>
          <p:nvPr/>
        </p:nvSpPr>
        <p:spPr>
          <a:xfrm>
            <a:off x="1359720" y="4927680"/>
            <a:ext cx="78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ko-KR" sz="1200" spc="-1" strike="noStrike">
                <a:solidFill>
                  <a:srgbClr val="ffffff"/>
                </a:solidFill>
                <a:latin typeface="Georgia"/>
              </a:rPr>
              <a:t>타 지 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Georgia"/>
              </a:rPr>
              <a:t>(60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6000"/>
          </a:bodyPr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Bidding cost) Proposal printing costs and travel expenses are huge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Proposal design, printing cost, bookbinding cost, etc. minimum 100 ~ 5 million won (per case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38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9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t least 100,000 won per person in travel expenses including daily expenses and food expenses (per person)</a:t>
            </a:r>
            <a:endParaRPr b="0" lang="en-US" sz="19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ed about) Face-to-face submission and contact with public officials (pre)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Exposure to absurd environments, including unfair behavior and transparency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59"/>
              </a:spcBef>
              <a:buNone/>
            </a:pPr>
            <a:endParaRPr b="0" lang="en-US" sz="800" spc="-1" strike="noStrike">
              <a:solidFill>
                <a:srgbClr val="ffffff"/>
              </a:solidFill>
              <a:latin typeface="Georgia"/>
            </a:endParaRPr>
          </a:p>
          <a:p>
            <a:pPr marL="244800" indent="-2448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Site evaluation) Offline handwriting evaluation reduces evaluation fairness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Difficulty in selecting the evaluator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1" marL="489960" indent="-244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2000" spc="-1" strike="noStrike">
                <a:solidFill>
                  <a:schemeClr val="accent1">
                    <a:lumMod val="75000"/>
                  </a:schemeClr>
                </a:solidFill>
                <a:latin typeface="맑은 고딕"/>
                <a:ea typeface="맑은 고딕"/>
              </a:rPr>
              <a:t>Aggregation of scores reduces the fairness of the evaluation by probable errors and closed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p:transition spd="slow">
    <p:push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Problem) Improvement efforts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Printing cost) Proposal printing cost 0 won </a:t>
            </a: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나눔고딕 ExtraBold"/>
              </a:rPr>
              <a:t></a:t>
            </a: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Print zero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119"/>
              </a:spcBef>
              <a:buNone/>
            </a:pPr>
            <a:endParaRPr b="0" lang="en-US" sz="6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Concerns about irrationality) Blocking civil servants' transition to non-face-to-face bidding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9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On-site evaluation) Proposal review and presentation (PT) online image evaluation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226" name="그룹 4"/>
          <p:cNvGrpSpPr/>
          <p:nvPr/>
        </p:nvGrpSpPr>
        <p:grpSpPr>
          <a:xfrm>
            <a:off x="481680" y="3936240"/>
            <a:ext cx="2448000" cy="2421000"/>
            <a:chOff x="481680" y="3936240"/>
            <a:chExt cx="2448000" cy="2421000"/>
          </a:xfrm>
        </p:grpSpPr>
        <p:pic>
          <p:nvPicPr>
            <p:cNvPr id="227" name="Picture 5" descr=""/>
            <p:cNvPicPr/>
            <p:nvPr/>
          </p:nvPicPr>
          <p:blipFill>
            <a:blip r:embed="rId1"/>
            <a:stretch/>
          </p:blipFill>
          <p:spPr>
            <a:xfrm flipH="1">
              <a:off x="481680" y="3936240"/>
              <a:ext cx="2448000" cy="204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TextBox 3"/>
            <p:cNvSpPr/>
            <p:nvPr/>
          </p:nvSpPr>
          <p:spPr>
            <a:xfrm>
              <a:off x="611640" y="6054480"/>
              <a:ext cx="2232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Printing cost 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- &gt; 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9" name="그룹 6"/>
          <p:cNvGrpSpPr/>
          <p:nvPr/>
        </p:nvGrpSpPr>
        <p:grpSpPr>
          <a:xfrm>
            <a:off x="3145680" y="3936240"/>
            <a:ext cx="2664000" cy="2439360"/>
            <a:chOff x="3145680" y="3936240"/>
            <a:chExt cx="2664000" cy="2439360"/>
          </a:xfrm>
        </p:grpSpPr>
        <p:pic>
          <p:nvPicPr>
            <p:cNvPr id="230" name="Picture 4" descr=""/>
            <p:cNvPicPr/>
            <p:nvPr/>
          </p:nvPicPr>
          <p:blipFill>
            <a:blip r:embed="rId2"/>
            <a:stretch/>
          </p:blipFill>
          <p:spPr>
            <a:xfrm>
              <a:off x="3145680" y="3936240"/>
              <a:ext cx="266400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TextBox 7"/>
            <p:cNvSpPr/>
            <p:nvPr/>
          </p:nvSpPr>
          <p:spPr>
            <a:xfrm>
              <a:off x="3276000" y="6042600"/>
              <a:ext cx="2448000" cy="33300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ffffff"/>
                  </a:solidFill>
                  <a:latin typeface="Georgia"/>
                </a:rPr>
                <a:t>Non- face-to-face</a:t>
              </a:r>
              <a:r>
                <a:rPr b="1" lang="en-US" sz="1600" spc="-1" strike="noStrike">
                  <a:solidFill>
                    <a:srgbClr val="ffff00"/>
                  </a:solidFill>
                  <a:latin typeface="Georgia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2" name="그룹 11"/>
          <p:cNvGrpSpPr/>
          <p:nvPr/>
        </p:nvGrpSpPr>
        <p:grpSpPr>
          <a:xfrm>
            <a:off x="6012000" y="3918240"/>
            <a:ext cx="2736000" cy="2409120"/>
            <a:chOff x="6012000" y="3918240"/>
            <a:chExt cx="2736000" cy="2409120"/>
          </a:xfrm>
        </p:grpSpPr>
        <p:pic>
          <p:nvPicPr>
            <p:cNvPr id="233" name="Picture 2" descr=""/>
            <p:cNvPicPr/>
            <p:nvPr/>
          </p:nvPicPr>
          <p:blipFill>
            <a:blip r:embed="rId3"/>
            <a:stretch/>
          </p:blipFill>
          <p:spPr>
            <a:xfrm>
              <a:off x="6025680" y="3918240"/>
              <a:ext cx="2650320" cy="20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9"/>
            <p:cNvSpPr/>
            <p:nvPr/>
          </p:nvSpPr>
          <p:spPr>
            <a:xfrm>
              <a:off x="6012000" y="6024600"/>
              <a:ext cx="2736000" cy="302760"/>
            </a:xfrm>
            <a:prstGeom prst="rect">
              <a:avLst/>
            </a:pr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offline-&gt; </a:t>
              </a:r>
              <a:r>
                <a:rPr b="0" lang="en-US" sz="1400" spc="-1" strike="noStrike">
                  <a:solidFill>
                    <a:srgbClr val="ffffff"/>
                  </a:solidFill>
                  <a:latin typeface="Georgia"/>
                </a:rPr>
                <a:t>Online evaluation</a:t>
              </a:r>
              <a:r>
                <a:rPr b="1" lang="en-US" sz="1400" spc="-1" strike="noStrike">
                  <a:solidFill>
                    <a:srgbClr val="ffff00"/>
                  </a:solidFill>
                  <a:latin typeface="Georgi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직사각형 18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직사각형 19"/>
          <p:cNvSpPr/>
          <p:nvPr/>
        </p:nvSpPr>
        <p:spPr>
          <a:xfrm>
            <a:off x="3506040" y="3244320"/>
            <a:ext cx="2131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nline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Innovation activity</a:t>
            </a:r>
            <a:endParaRPr b="0" lang="en-US" sz="36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18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Education Promotion] Training and Promotion of Pilot Projects and System Users</a:t>
            </a:r>
            <a:endParaRPr b="0" lang="en-US" sz="180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District education centered on local innovation cities (6) Collective education and promotion (more than 1,500 attendees) 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210"/>
              </a:spcBef>
              <a:buClr>
                <a:srgbClr val="000000"/>
              </a:buClr>
              <a:buSzPct val="70000"/>
              <a:buFont typeface="Wingdings" charset="2"/>
              <a:buChar char=""/>
            </a:pPr>
            <a:r>
              <a:rPr b="1" lang="en-US" sz="1050" spc="-1" strike="noStrike">
                <a:solidFill>
                  <a:srgbClr val="0d0d0d"/>
                </a:solidFill>
                <a:latin typeface="맑은 고딕"/>
                <a:ea typeface="맑은 고딕"/>
              </a:rPr>
              <a:t>Opening of the Procurement Training Center's regular training course (e-ordering system) (9 times a year)</a:t>
            </a: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1050" spc="-1" strike="noStrike">
              <a:solidFill>
                <a:srgbClr val="ffffff"/>
              </a:solidFill>
              <a:latin typeface="Georgia"/>
            </a:endParaRPr>
          </a:p>
        </p:txBody>
      </p:sp>
      <p:pic>
        <p:nvPicPr>
          <p:cNvPr id="239" name="Picture 10" descr=""/>
          <p:cNvPicPr/>
          <p:nvPr/>
        </p:nvPicPr>
        <p:blipFill>
          <a:blip r:embed="rId1"/>
          <a:stretch/>
        </p:blipFill>
        <p:spPr>
          <a:xfrm>
            <a:off x="666720" y="2797920"/>
            <a:ext cx="8000640" cy="1644120"/>
          </a:xfrm>
          <a:prstGeom prst="rect">
            <a:avLst/>
          </a:prstGeom>
          <a:ln w="9525">
            <a:noFill/>
          </a:ln>
        </p:spPr>
      </p:pic>
      <p:pic>
        <p:nvPicPr>
          <p:cNvPr id="240" name="Picture 11" descr=""/>
          <p:cNvPicPr/>
          <p:nvPr/>
        </p:nvPicPr>
        <p:blipFill>
          <a:blip r:embed="rId2"/>
          <a:stretch/>
        </p:blipFill>
        <p:spPr>
          <a:xfrm>
            <a:off x="6090840" y="4533480"/>
            <a:ext cx="2560680" cy="1680480"/>
          </a:xfrm>
          <a:prstGeom prst="rect">
            <a:avLst/>
          </a:prstGeom>
          <a:ln w="9525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718560" y="4501440"/>
            <a:ext cx="2562120" cy="17128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4"/>
          <a:stretch/>
        </p:blipFill>
        <p:spPr>
          <a:xfrm>
            <a:off x="3316320" y="4507920"/>
            <a:ext cx="2736000" cy="17060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brightnessContrast bright="42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6057000" y="2824200"/>
            <a:ext cx="2592720" cy="158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301680" y="1527120"/>
            <a:ext cx="850356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[Quality Performance] 'Billing cost of 64 billion won after 18 years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8cadae"/>
              </a:buClr>
              <a:buSzPct val="75000"/>
              <a:buFont typeface="Wingdings 2" charset="2"/>
              <a:buChar char=""/>
            </a:pPr>
            <a:r>
              <a:rPr b="0" lang="en-US" sz="18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Online submission of negotiation contract proposals has increased significantly since the time of system </a:t>
            </a:r>
            <a:r>
              <a:rPr b="0" lang="en-US" sz="2000" spc="-1" strike="noStrike">
                <a:solidFill>
                  <a:srgbClr val="0d0d0d"/>
                </a:solidFill>
                <a:latin typeface="KoPub돋움체 Bold"/>
                <a:ea typeface="KoPub돋움체 Bold"/>
              </a:rPr>
              <a:t>improvement ('August 18).</a:t>
            </a:r>
            <a:endParaRPr b="0" lang="en-US" sz="2000" spc="-1" strike="noStrike">
              <a:solidFill>
                <a:srgbClr val="c5d1d7"/>
              </a:solidFill>
              <a:latin typeface="Georgia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4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                          </a:t>
            </a:r>
            <a:endParaRPr b="0" lang="en-US" sz="2400" spc="-1" strike="noStrike">
              <a:solidFill>
                <a:srgbClr val="ffffff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Wingdings 2" charset="2"/>
              <a:buChar char=""/>
            </a:pPr>
            <a:r>
              <a:rPr b="1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절감 사례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(</a:t>
            </a:r>
            <a:r>
              <a:rPr b="0" lang="ko-KR" sz="2000" spc="-1" strike="noStrike" u="sng">
                <a:solidFill>
                  <a:srgbClr val="00a3d6"/>
                </a:solidFill>
                <a:uFillTx/>
                <a:latin typeface="나눔고딕 ExtraBold"/>
                <a:ea typeface="나눔고딕 ExtraBold"/>
                <a:hlinkClick r:id="rId1"/>
              </a:rPr>
              <a:t>영상 클릭</a:t>
            </a:r>
            <a:r>
              <a:rPr b="0" lang="en-US" sz="2000" spc="-1" strike="noStrike">
                <a:solidFill>
                  <a:srgbClr val="000000"/>
                </a:solidFill>
                <a:latin typeface="나눔고딕 ExtraBold"/>
                <a:ea typeface="나눔고딕 ExtraBold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5" name="직사각형 10"/>
          <p:cNvSpPr/>
          <p:nvPr/>
        </p:nvSpPr>
        <p:spPr>
          <a:xfrm>
            <a:off x="285840" y="2804760"/>
            <a:ext cx="4000320" cy="2999880"/>
          </a:xfrm>
          <a:prstGeom prst="rect">
            <a:avLst/>
          </a:prstGeom>
          <a:gradFill rotWithShape="0">
            <a:gsLst>
              <a:gs pos="0">
                <a:srgbClr val="f5c5bf"/>
              </a:gs>
              <a:gs pos="100000">
                <a:srgbClr val="fae2df"/>
              </a:gs>
            </a:gsLst>
            <a:lin ang="5400000"/>
          </a:gra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522360" y="3019320"/>
            <a:ext cx="3495240" cy="252360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193320" y="213840"/>
            <a:ext cx="8626680" cy="758520"/>
          </a:xfrm>
          <a:prstGeom prst="rect">
            <a:avLst/>
          </a:prstGeom>
          <a:solidFill>
            <a:schemeClr val="accent5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en-US" sz="2800" spc="-1" strike="noStrike">
                <a:solidFill>
                  <a:srgbClr val="0070c0"/>
                </a:solidFill>
                <a:latin typeface="HY헤드라인M"/>
                <a:ea typeface="HY헤드라인M"/>
              </a:rPr>
              <a:t>(Major achievements) Bidding cost reduced 64 billion won</a:t>
            </a:r>
            <a:endParaRPr b="0" lang="en-US" sz="28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8" name="직사각형 12"/>
          <p:cNvSpPr/>
          <p:nvPr/>
        </p:nvSpPr>
        <p:spPr>
          <a:xfrm>
            <a:off x="4969800" y="3516840"/>
            <a:ext cx="3816720" cy="1917000"/>
          </a:xfrm>
          <a:prstGeom prst="rect">
            <a:avLst/>
          </a:prstGeom>
          <a:solidFill>
            <a:schemeClr val="accent6">
              <a:lumMod val="60000"/>
              <a:lumOff val="40000"/>
            </a:scheme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4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Georgia"/>
                <a:ea typeface="나눔고딕"/>
              </a:rPr>
              <a:t>Print cost reduction </a:t>
            </a:r>
            <a:r>
              <a:rPr b="1" lang="en-US" sz="1600" spc="-1" strike="noStrike">
                <a:solidFill>
                  <a:srgbClr val="ff0000"/>
                </a:solidFill>
                <a:latin typeface="나눔고딕"/>
                <a:ea typeface="나눔고딕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2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1" lang="en-US" sz="1200" spc="-1" strike="noStrike">
                <a:solidFill>
                  <a:srgbClr val="000000"/>
                </a:solidFill>
                <a:latin typeface="나눔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</a:t>
            </a: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58296,000,000</a:t>
            </a:r>
            <a:r>
              <a:rPr b="0" lang="ko-KR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</a:pPr>
            <a:r>
              <a:rPr b="1" lang="en-US" sz="12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eorgia"/>
                <a:ea typeface="나눔고딕"/>
              </a:rPr>
              <a:t>Travel cost savings </a:t>
            </a:r>
            <a:r>
              <a:rPr b="1" lang="en-US" sz="2000" spc="-1" strike="noStrike">
                <a:solidFill>
                  <a:srgbClr val="000000"/>
                </a:solidFill>
                <a:latin typeface="맑은 고딕"/>
                <a:ea typeface="나눔고딕"/>
              </a:rPr>
              <a:t> : 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58</a:t>
            </a:r>
            <a:r>
              <a:rPr b="1" lang="ko-KR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억원</a:t>
            </a:r>
            <a:r>
              <a:rPr b="1" lang="en-US" sz="2000" spc="-1" strike="noStrike">
                <a:solidFill>
                  <a:srgbClr val="ff0000"/>
                </a:solidFill>
                <a:latin typeface="맑은 고딕"/>
                <a:ea typeface="나눔고딕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</a:pPr>
            <a:r>
              <a:rPr b="0" lang="en-US" sz="1200" spc="-100" strike="noStrike">
                <a:solidFill>
                  <a:srgbClr val="000000"/>
                </a:solidFill>
                <a:latin typeface="맑은 고딕"/>
                <a:ea typeface="나눔고딕"/>
              </a:rPr>
              <a:t>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총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29,148 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건 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1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만원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* 2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인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= 5,829,600,000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원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</a:pP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‘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8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1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~ 19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년 </a:t>
            </a:r>
            <a:r>
              <a:rPr b="0" lang="en-US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6</a:t>
            </a:r>
            <a:r>
              <a:rPr b="0" lang="ko-KR" sz="1200" spc="-100" strike="noStrike">
                <a:solidFill>
                  <a:srgbClr val="000000"/>
                </a:solidFill>
                <a:latin typeface="나눔고딕"/>
                <a:ea typeface="나눔고딕"/>
              </a:rPr>
              <a:t>월말 까지 현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자유형 16"/>
          <p:cNvSpPr/>
          <p:nvPr/>
        </p:nvSpPr>
        <p:spPr>
          <a:xfrm>
            <a:off x="1360080" y="3447720"/>
            <a:ext cx="1859040" cy="1191240"/>
          </a:xfrm>
          <a:custGeom>
            <a:avLst/>
            <a:gdLst>
              <a:gd name="textAreaLeft" fmla="*/ 0 w 1859040"/>
              <a:gd name="textAreaRight" fmla="*/ 1859400 w 1859040"/>
              <a:gd name="textAreaTop" fmla="*/ 0 h 1191240"/>
              <a:gd name="textAreaBottom" fmla="*/ 1191600 h 1191240"/>
            </a:gdLst>
            <a:ahLst/>
            <a:rect l="textAreaLeft" t="textAreaTop" r="textAreaRight" b="textAreaBottom"/>
            <a:pathLst>
              <a:path w="1859280" h="1120140">
                <a:moveTo>
                  <a:pt x="0" y="1120140"/>
                </a:moveTo>
                <a:lnTo>
                  <a:pt x="944880" y="685800"/>
                </a:lnTo>
                <a:lnTo>
                  <a:pt x="1737360" y="76200"/>
                </a:lnTo>
                <a:lnTo>
                  <a:pt x="1638300" y="22860"/>
                </a:lnTo>
                <a:lnTo>
                  <a:pt x="1836420" y="0"/>
                </a:lnTo>
                <a:lnTo>
                  <a:pt x="1859280" y="152400"/>
                </a:lnTo>
                <a:lnTo>
                  <a:pt x="1775460" y="106680"/>
                </a:lnTo>
                <a:lnTo>
                  <a:pt x="982980" y="708660"/>
                </a:lnTo>
                <a:lnTo>
                  <a:pt x="0" y="1120140"/>
                </a:lnTo>
                <a:close/>
              </a:path>
            </a:pathLst>
          </a:cu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50" name="자유형 18"/>
          <p:cNvSpPr/>
          <p:nvPr/>
        </p:nvSpPr>
        <p:spPr>
          <a:xfrm>
            <a:off x="1550880" y="4366080"/>
            <a:ext cx="1719720" cy="686520"/>
          </a:xfrm>
          <a:custGeom>
            <a:avLst/>
            <a:gdLst>
              <a:gd name="textAreaLeft" fmla="*/ 0 w 1719720"/>
              <a:gd name="textAreaRight" fmla="*/ 1720080 w 1719720"/>
              <a:gd name="textAreaTop" fmla="*/ 0 h 686520"/>
              <a:gd name="textAreaBottom" fmla="*/ 686880 h 686520"/>
            </a:gdLst>
            <a:ahLst/>
            <a:rect l="textAreaLeft" t="textAreaTop" r="textAreaRight" b="textAreaBottom"/>
            <a:pathLst>
              <a:path w="1722120" h="586740">
                <a:moveTo>
                  <a:pt x="0" y="586740"/>
                </a:moveTo>
                <a:lnTo>
                  <a:pt x="906780" y="358140"/>
                </a:lnTo>
                <a:lnTo>
                  <a:pt x="1569720" y="76200"/>
                </a:lnTo>
                <a:lnTo>
                  <a:pt x="1516380" y="0"/>
                </a:lnTo>
                <a:lnTo>
                  <a:pt x="1722120" y="7620"/>
                </a:lnTo>
                <a:lnTo>
                  <a:pt x="1653540" y="182880"/>
                </a:lnTo>
                <a:lnTo>
                  <a:pt x="1607820" y="121920"/>
                </a:lnTo>
                <a:lnTo>
                  <a:pt x="937260" y="396240"/>
                </a:lnTo>
                <a:lnTo>
                  <a:pt x="0" y="586740"/>
                </a:lnTo>
                <a:close/>
              </a:path>
            </a:pathLst>
          </a:custGeom>
          <a:solidFill>
            <a:srgbClr val="0070c0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pic>
        <p:nvPicPr>
          <p:cNvPr id="251" name="Picture 5" descr=""/>
          <p:cNvPicPr/>
          <p:nvPr/>
        </p:nvPicPr>
        <p:blipFill>
          <a:blip r:embed="rId3"/>
          <a:stretch/>
        </p:blipFill>
        <p:spPr>
          <a:xfrm>
            <a:off x="3357720" y="3876480"/>
            <a:ext cx="552240" cy="571320"/>
          </a:xfrm>
          <a:prstGeom prst="rect">
            <a:avLst/>
          </a:prstGeom>
          <a:ln w="9525">
            <a:noFill/>
          </a:ln>
        </p:spPr>
      </p:pic>
      <p:sp>
        <p:nvSpPr>
          <p:cNvPr id="252" name="오른쪽 화살표 11"/>
          <p:cNvSpPr/>
          <p:nvPr/>
        </p:nvSpPr>
        <p:spPr>
          <a:xfrm>
            <a:off x="4500720" y="3947760"/>
            <a:ext cx="285480" cy="7855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d16349"/>
          </a:solidFill>
          <a:ln>
            <a:solidFill>
              <a:srgbClr val="9a4936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899640" y="332640"/>
            <a:ext cx="7595640" cy="169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248" strike="noStrike" cap="all">
                <a:solidFill>
                  <a:srgbClr val="ffffff"/>
                </a:solidFill>
                <a:latin typeface="Georgi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738720" y="3429000"/>
            <a:ext cx="7772040" cy="8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rgbClr val="0070c0"/>
                </a:solidFill>
                <a:latin typeface="Georgia"/>
              </a:rPr>
              <a:t>thanks</a:t>
            </a:r>
            <a:endParaRPr b="0" lang="en-US" sz="4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중앙">
  <a:themeElements>
    <a:clrScheme name="중앙">
      <a:dk1>
        <a:srgbClr val="000000"/>
      </a:dk1>
      <a:lt1>
        <a:srgbClr val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46b86"/>
      </a:dk2>
      <a:lt2>
        <a:srgbClr val="c5d1d7"/>
      </a:lt2>
      <a:accent1>
        <a:srgbClr val="d16349"/>
      </a:accent1>
      <a:accent2>
        <a:srgbClr val="ccb400"/>
      </a:accent2>
      <a:accent3>
        <a:srgbClr val="8cadae"/>
      </a:accent3>
      <a:accent4>
        <a:srgbClr val="8c7b70"/>
      </a:accent4>
      <a:accent5>
        <a:srgbClr val="8fb08c"/>
      </a:accent5>
      <a:accent6>
        <a:srgbClr val="d19049"/>
      </a:accent6>
      <a:hlink>
        <a:srgbClr val="00a3d6"/>
      </a:hlink>
      <a:folHlink>
        <a:srgbClr val="694f07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4953</TotalTime>
  <Application>LibreOffice/7.4.7.2$Linux_X86_64 LibreOffice_project/40$Build-2</Application>
  <AppVersion>15.0000</AppVersion>
  <Words>832</Words>
  <Paragraphs>157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5T00:16:16Z</dcterms:created>
  <dc:creator>e-발주</dc:creator>
  <dc:description/>
  <dc:language>en-US</dc:language>
  <cp:lastModifiedBy>USER</cp:lastModifiedBy>
  <cp:lastPrinted>2019-09-15T10:14:29Z</cp:lastPrinted>
  <dcterms:modified xsi:type="dcterms:W3CDTF">2019-12-13T13:33:35Z</dcterms:modified>
  <cp:revision>321</cp:revision>
  <dc:subject/>
  <dc:title>구매업무 협의 (조달)  정보  공유/개방 추진으로 발주기관 공공조달 업무지원 및 우리청 업무 경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9</vt:r8>
  </property>
  <property fmtid="{D5CDD505-2E9C-101B-9397-08002B2CF9AE}" pid="3" name="PresentationFormat">
    <vt:lpwstr>화면 슬라이드 쇼(4:3)</vt:lpwstr>
  </property>
  <property fmtid="{D5CDD505-2E9C-101B-9397-08002B2CF9AE}" pid="4" name="Slides">
    <vt:r8>9</vt:r8>
  </property>
</Properties>
</file>