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60F06A-9279-45BD-9747-D0D1BBCC1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387C96-DD7C-47F3-BE17-1FC1BC7F94C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9EB9F4-CBDD-4548-AB14-3D8E3FB0B6F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93FA49-69C1-4853-A1FC-C719BF06667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58E632-0144-490A-AFDE-79DF6548CDB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8E2313-3374-4488-8C25-5E433C705E7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04BF43-1165-4FAE-BC2A-F3182E4D741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59009D-4C23-4EF5-AB22-1669880E580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FEAF55-F2C0-43E9-8A6E-6466CC554E2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E8E934-274E-4CBC-8006-F876A51CB00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CEE19F-10A5-480A-BEAD-50CE6525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13A908-90F7-4F4F-A6E1-49B32BAE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245D38-18BC-43C2-8207-45792A6A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6C278E-9F69-4A90-9F26-7DB027C6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CBABDC-CCAB-4345-9CD7-5BBD5307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0CA64D-1C0B-45C2-BF22-F4BFD8F9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67DB74-70FF-438F-B7E5-0E3989BE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F23525-9435-448A-8790-D43B185B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259CE0-6841-448C-A406-7DA5457C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156915-7B00-4AA7-AE53-65F78CBF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4C8DC5-FF62-4C25-9BD9-E0829323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9BC34D-A37E-4FAD-84D6-4BE11F41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5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6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FE00906-D451-4A2B-8A3E-65F6E89CEACF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en-US" sz="14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Republic of Korea</a:t>
            </a:r>
            <a:br>
              <a:rPr sz="2400"/>
            </a:b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“P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HY헤드라인M"/>
              </a:rPr>
              <a:t>Broadening Access to Public Procurement Service : Online Proposal and Evaluation Platform(e-ordering system) </a:t>
            </a: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직사각형 3"/>
          <p:cNvSpPr/>
          <p:nvPr/>
        </p:nvSpPr>
        <p:spPr>
          <a:xfrm>
            <a:off x="467640" y="3070800"/>
            <a:ext cx="849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Expect to save KRW 140 billion annually when using all public institution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Proposals, evaluations and cases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pt) The bidding process through evaluation after receiving the proposal (standard) from the government bidding, and announced more than 70,000 bids per year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양쪽 모서리가 둥근 사각형 106"/>
          <p:cNvSpPr/>
          <p:nvPr/>
        </p:nvSpPr>
        <p:spPr>
          <a:xfrm flipV="1" rot="10800000">
            <a:off x="3500280" y="3811680"/>
            <a:ext cx="1431720" cy="73368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ding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Off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Submit propo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HY견고딕"/>
              </a:rPr>
              <a:t>Venture busi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직사각형 38"/>
          <p:cNvSpPr/>
          <p:nvPr/>
        </p:nvSpPr>
        <p:spPr>
          <a:xfrm>
            <a:off x="6606000" y="3571920"/>
            <a:ext cx="170892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Proposal Evaluation</a:t>
            </a:r>
            <a:r>
              <a:rPr b="0" lang="en-US" sz="11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, (Evaluation Committee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양쪽 모서리가 둥근 사각형 40"/>
          <p:cNvSpPr/>
          <p:nvPr/>
        </p:nvSpPr>
        <p:spPr>
          <a:xfrm flipV="1" rot="10800000">
            <a:off x="665388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꺾인 연결선 5"/>
          <p:cNvCxnSpPr>
            <a:stCxn id="181" idx="3"/>
            <a:endCxn id="185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189" name="꺾인 연결선 15"/>
          <p:cNvCxnSpPr>
            <a:stCxn id="185" idx="3"/>
            <a:endCxn id="186" idx="0"/>
          </p:cNvCxnSpPr>
          <p:nvPr/>
        </p:nvCxnSpPr>
        <p:spPr>
          <a:xfrm>
            <a:off x="6589440" y="3017520"/>
            <a:ext cx="87120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190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192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193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195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6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7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198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직선 화살표 연결선 12"/>
          <p:cNvCxnSpPr>
            <a:stCxn id="186" idx="2"/>
            <a:endCxn id="187" idx="3"/>
          </p:cNvCxnSpPr>
          <p:nvPr/>
        </p:nvCxnSpPr>
        <p:spPr>
          <a:xfrm>
            <a:off x="7460280" y="4114440"/>
            <a:ext cx="324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204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041080" y="4827960"/>
            <a:ext cx="14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8297280" y="403848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11640" y="2833200"/>
            <a:ext cx="15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Bidding 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 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2195640" y="2833200"/>
            <a:ext cx="1007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Number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documents) Request for 10 copies including proposal, summary, and presentation materials, 2 CD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Face-to-face submission) Visit the client and submit it face to fa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Still print, face-to-face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To bid / evaluate to Jeju Island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Environmental change) Local transfer of national and public institu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ompleted relocation to 12 central ministries, including the Ministry of Public Administration and Security and the Ministry of Science, Technology and Information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Local transfer of public institutions to 154 regional innovation cities (completed 154), additional 122 review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cost) Proposal printing costs and travel expenses are hug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Proposal design, printing cost, bookbinding cost, etc. minimum 100 ~ 5 million won (per case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t least 100,000 won per person in travel expenses including daily expenses and food expenses (per person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ed about) Face-to-face submission and contact with public officials (pre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Exposure to absurd environments, including unfair behavior and transparenc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Site evaluation) Offline handwriting evaluation reduces evaluation fairn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Difficulty in selecting the evaluator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ggregation of scores reduces the fairness of the evaluation by probable errors and close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 Improvement effor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rinting cost) Proposal printing cost 0 w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Print zer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9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s about irrationality) Blocking civil servants' transition to non-face-to-face bidding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On-site evaluation) Proposal review and presentation (PT) online image evalu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26" name="그룹 4"/>
          <p:cNvGrpSpPr/>
          <p:nvPr/>
        </p:nvGrpSpPr>
        <p:grpSpPr>
          <a:xfrm>
            <a:off x="481680" y="3936240"/>
            <a:ext cx="2448000" cy="2421000"/>
            <a:chOff x="481680" y="3936240"/>
            <a:chExt cx="2448000" cy="242100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93624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3"/>
            <p:cNvSpPr/>
            <p:nvPr/>
          </p:nvSpPr>
          <p:spPr>
            <a:xfrm>
              <a:off x="611640" y="605448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Printing cost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그룹 6"/>
          <p:cNvGrpSpPr/>
          <p:nvPr/>
        </p:nvGrpSpPr>
        <p:grpSpPr>
          <a:xfrm>
            <a:off x="3145680" y="3936240"/>
            <a:ext cx="2664000" cy="2439360"/>
            <a:chOff x="3145680" y="3936240"/>
            <a:chExt cx="2664000" cy="243936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93624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3276000" y="6042600"/>
              <a:ext cx="244800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Non- face-to-face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그룹 11"/>
          <p:cNvGrpSpPr/>
          <p:nvPr/>
        </p:nvGrpSpPr>
        <p:grpSpPr>
          <a:xfrm>
            <a:off x="6012000" y="3918240"/>
            <a:ext cx="2736000" cy="2409120"/>
            <a:chOff x="6012000" y="3918240"/>
            <a:chExt cx="2736000" cy="2409120"/>
          </a:xfrm>
        </p:grpSpPr>
        <p:pic>
          <p:nvPicPr>
            <p:cNvPr id="233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91824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"/>
            <p:cNvSpPr/>
            <p:nvPr/>
          </p:nvSpPr>
          <p:spPr>
            <a:xfrm>
              <a:off x="6012000" y="6024600"/>
              <a:ext cx="2736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offline-&gt; </a:t>
              </a: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Online evaluation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직사각형 18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9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Innovation activity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Education Promotion] Training and Promotion of Pilot Projects and System User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District education centered on local innovation cities (6) Collective education and promotion (more than 1,500 attendees) 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Opening of the Procurement Training Center's regular training course (e-ordering system) (9 times a year)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Quality Performance] 'Billing cost of 64 billion won after 18 yea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Online submission of negotiation contract proposals has increased significantly since the time of system </a:t>
            </a:r>
            <a:r>
              <a:rPr b="0" lang="en-US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improvement ('August 18).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직사각형 10"/>
          <p:cNvSpPr/>
          <p:nvPr/>
        </p:nvSpPr>
        <p:spPr>
          <a:xfrm>
            <a:off x="285840" y="280476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2360" y="30193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Major achievements) Bidding cost reduced 64 billion w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직사각형 12"/>
          <p:cNvSpPr/>
          <p:nvPr/>
        </p:nvSpPr>
        <p:spPr>
          <a:xfrm>
            <a:off x="4969800" y="3516840"/>
            <a:ext cx="3816720" cy="191700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나눔고딕"/>
              </a:rPr>
              <a:t>Print cost reduction </a:t>
            </a:r>
            <a:r>
              <a:rPr b="1" lang="en-US" sz="16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나눔고딕"/>
              </a:rPr>
              <a:t>Travel cost savings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자유형 16"/>
          <p:cNvSpPr/>
          <p:nvPr/>
        </p:nvSpPr>
        <p:spPr>
          <a:xfrm>
            <a:off x="1360080" y="344772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0" name="자유형 18"/>
          <p:cNvSpPr/>
          <p:nvPr/>
        </p:nvSpPr>
        <p:spPr>
          <a:xfrm>
            <a:off x="1550880" y="43660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3357720" y="38764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252" name="오른쪽 화살표 11"/>
          <p:cNvSpPr/>
          <p:nvPr/>
        </p:nvSpPr>
        <p:spPr>
          <a:xfrm>
            <a:off x="4500720" y="394776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thanks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53</TotalTime>
  <Application>LibreOffice/7.4.7.2$Linux_X86_64 LibreOffice_project/40$Build-2</Application>
  <AppVersion>15.0000</AppVersion>
  <Words>832</Words>
  <Paragraphs>1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33:35Z</dcterms:modified>
  <cp:revision>321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9</vt:r8>
  </property>
</Properties>
</file>