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F422D2-19B7-4472-A248-C6E3AA6ED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/>
              <a:buChar char="Þ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본 발표자료에 대한 설명을 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안녕하십니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정보기술계약과 고운혁 주무관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금부터  “조달청 제안 평가 플랫폼” 개방확대 주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3C6809-946D-49E8-A7CD-6C21FBD498F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먼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현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나라장터를 통해 제안서를 접수 받은  입찰 공고건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여건 이상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제출 받아 평가의 과정을 통해 계약을 체결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76BA34E-2EE9-4672-8DA8-516A7438AD9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요청하는 입찰서류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요약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자료 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매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계약공무원에게 직접 대면제출로 요청하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1BF70AE-BB2B-483D-B9E8-BD8B90BA4B6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최근 정책환경 변화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가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은 세종시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는 지방혁신도시로 이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업체는 제안서 제출 및 기술평가하러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까지도 가야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클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보시는 도표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 지역과 다른 타지역 입찰자 비율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천여 건 중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건이나 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조달기업은 더 많은 출장비용 필요하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C958CC9-649C-4596-8F93-F803E96B629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환경변화에 따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으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인쇄비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용 등 입찰비용이 막대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면제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는 계약공무원과 불필요한 사전접촉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을 환경에 노출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에 있는 오프라인 수기평가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평가위원의 고른 섭외가 어렵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집계오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점수 미공개 등 평가 공정성 등에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을 가지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39394A-85D3-4439-8DB7-F0EDF6995DC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문제점에 대한  조달청의 개선 노력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오프라인 제안서 제출 및 평가를 온라인으로 전면 개방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원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비대면 입찰서 제출로 인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질 환경 차단에 노력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BC032C-65EF-4A7B-95DD-4489E1CC4F9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통해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표준화된 시스템으로 기능을 개선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 사용자 권역별 교육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교육원에 정규교육 과정을 제공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435E9C6-F216-4BB1-9030-62C9804A134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적극행정의 노력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도 개선 시점인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하반기부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건은 대폭 증가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과 출장비용으로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의 비용절감이 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53DE15-7DBC-489B-A253-226F28B101C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224F71-772A-47C0-84F3-CFC1EE0E427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D276B4-6B2E-4778-A8E3-016957D3C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9B6B32-DCED-415D-B401-80B099F0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23DA1C-2494-4D82-88DA-04F585505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1F88B9-B541-46A6-8AC3-E29684390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DD59C9-572D-4EC3-9B13-8C7ADC59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9E0C8F-9593-4753-81DB-45C0A08DF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1422AF-A3AB-471D-AE76-2EC5DB3F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C9DE67-33E0-497C-8E2F-9E737648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096208-32F3-4A61-AC9E-2FF9A6B2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ABFA3E-1397-4AFC-9E03-80AA0FD6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6E69EC-6D17-45FB-9580-FD1E38A04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B27D84-BCDF-45E0-B474-2785BEC99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직사각형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직사각형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직사각형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직선 연결선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직사각형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chemeClr val="accent1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c5d1d7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타원 9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3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스터 텍스트 스타일을 편집합니다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둘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5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6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직사각형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직사각형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직사각형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직사각형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ko-KR" sz="1600" spc="248" strike="noStrike" cap="all">
                <a:solidFill>
                  <a:srgbClr val="c5d1d7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직사각형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직사각형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직선 연결선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타원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타원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7F0FD7E-2508-4F59-85C8-0C008A8572B2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microsoft.com/office/2007/relationships/hdphoto" Target="../media/hdphoto1.wdp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in/Rec%2009-13-19_002_screen_video_sys_audio.avi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86000" y="3643200"/>
            <a:ext cx="432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en-US" sz="1400" spc="248" strike="noStrike" cap="all">
                <a:solidFill>
                  <a:srgbClr val="c5d1d7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Republic of Korea</a:t>
            </a:r>
            <a:br>
              <a:rPr sz="2400"/>
            </a:b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“P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79640" y="188640"/>
            <a:ext cx="8784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HY헤드라인M"/>
              </a:rPr>
              <a:t>Broadening Access to Public Procurement Service : Online Proposal and Evaluation Platform(e-ordering system) </a:t>
            </a: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직사각형 3"/>
          <p:cNvSpPr/>
          <p:nvPr/>
        </p:nvSpPr>
        <p:spPr>
          <a:xfrm>
            <a:off x="467640" y="3070800"/>
            <a:ext cx="8496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Expect to save KRW 140 billion annually when using all public institution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직사각형 19"/>
          <p:cNvSpPr/>
          <p:nvPr/>
        </p:nvSpPr>
        <p:spPr>
          <a:xfrm>
            <a:off x="467280" y="2727000"/>
            <a:ext cx="2823120" cy="2742120"/>
          </a:xfrm>
          <a:prstGeom prst="rect">
            <a:avLst/>
          </a:prstGeom>
          <a:solidFill>
            <a:schemeClr val="bg2">
              <a:lumMod val="20000"/>
              <a:lumOff val="80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Proposals, evaluations and cases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pt) The bidding process through evaluation after receiving the proposal (standard) from the government bidding, and announced more than 70,000 bids per year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양쪽 모서리가 둥근 사각형 101"/>
          <p:cNvSpPr/>
          <p:nvPr/>
        </p:nvSpPr>
        <p:spPr>
          <a:xfrm flipV="1" rot="10800000">
            <a:off x="612000" y="319824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협상계약</a:t>
            </a:r>
            <a:r>
              <a:rPr b="1" lang="en-US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양쪽 모서리가 둥근 사각형 106"/>
          <p:cNvSpPr/>
          <p:nvPr/>
        </p:nvSpPr>
        <p:spPr>
          <a:xfrm flipV="1" rot="10800000">
            <a:off x="3500280" y="3811680"/>
            <a:ext cx="1431720" cy="73368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dding No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Off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양쪽 모서리가 둥근 사각형 198"/>
          <p:cNvSpPr/>
          <p:nvPr/>
        </p:nvSpPr>
        <p:spPr>
          <a:xfrm flipV="1" rot="10800000">
            <a:off x="612000" y="427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계경쟁 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양쪽 모서리가 둥근 사각형 199"/>
          <p:cNvSpPr/>
          <p:nvPr/>
        </p:nvSpPr>
        <p:spPr>
          <a:xfrm flipV="1" rot="10800000">
            <a:off x="612000" y="373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규격가격동시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양쪽 모서리가 둥근 사각형 200"/>
          <p:cNvSpPr/>
          <p:nvPr/>
        </p:nvSpPr>
        <p:spPr>
          <a:xfrm flipV="1" rot="10800000">
            <a:off x="612000" y="4818600"/>
            <a:ext cx="1613520" cy="506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외자협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직사각형 37"/>
          <p:cNvSpPr/>
          <p:nvPr/>
        </p:nvSpPr>
        <p:spPr>
          <a:xfrm>
            <a:off x="4626000" y="2643120"/>
            <a:ext cx="1963440" cy="748440"/>
          </a:xfrm>
          <a:prstGeom prst="rect">
            <a:avLst/>
          </a:prstGeom>
          <a:solidFill>
            <a:srgbClr val="000000"/>
          </a:solidFill>
          <a:ln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Submit propo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HY견고딕"/>
              </a:rPr>
              <a:t>Venture busine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직사각형 38"/>
          <p:cNvSpPr/>
          <p:nvPr/>
        </p:nvSpPr>
        <p:spPr>
          <a:xfrm>
            <a:off x="6606000" y="3571920"/>
            <a:ext cx="1708920" cy="5421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Proposal Evaluation</a:t>
            </a:r>
            <a:r>
              <a:rPr b="0" lang="en-US" sz="11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, (Evaluation Committee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양쪽 모서리가 둥근 사각형 40"/>
          <p:cNvSpPr/>
          <p:nvPr/>
        </p:nvSpPr>
        <p:spPr>
          <a:xfrm flipV="1" rot="10800000">
            <a:off x="6653880" y="4947120"/>
            <a:ext cx="1619280" cy="50364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꺾인 연결선 5"/>
          <p:cNvCxnSpPr>
            <a:stCxn id="181" idx="3"/>
            <a:endCxn id="185" idx="1"/>
          </p:cNvCxnSpPr>
          <p:nvPr/>
        </p:nvCxnSpPr>
        <p:spPr>
          <a:xfrm flipV="1">
            <a:off x="4215960" y="3017520"/>
            <a:ext cx="410040" cy="7938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189" name="꺾인 연결선 15"/>
          <p:cNvCxnSpPr>
            <a:stCxn id="185" idx="3"/>
            <a:endCxn id="186" idx="0"/>
          </p:cNvCxnSpPr>
          <p:nvPr/>
        </p:nvCxnSpPr>
        <p:spPr>
          <a:xfrm>
            <a:off x="6589440" y="3017520"/>
            <a:ext cx="871200" cy="5544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pic>
        <p:nvPicPr>
          <p:cNvPr id="190" name="그림 69" descr=""/>
          <p:cNvPicPr/>
          <p:nvPr/>
        </p:nvPicPr>
        <p:blipFill>
          <a:blip r:embed="rId1"/>
          <a:stretch/>
        </p:blipFill>
        <p:spPr>
          <a:xfrm>
            <a:off x="4902120" y="3507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그림 72" descr=""/>
          <p:cNvPicPr/>
          <p:nvPr/>
        </p:nvPicPr>
        <p:blipFill>
          <a:blip r:embed="rId2"/>
          <a:stretch/>
        </p:blipFill>
        <p:spPr>
          <a:xfrm>
            <a:off x="3730320" y="4545360"/>
            <a:ext cx="1164600" cy="1164600"/>
          </a:xfrm>
          <a:prstGeom prst="rect">
            <a:avLst/>
          </a:prstGeom>
          <a:ln w="0">
            <a:noFill/>
          </a:ln>
        </p:spPr>
      </p:pic>
      <p:grpSp>
        <p:nvGrpSpPr>
          <p:cNvPr id="192" name="그룹 276"/>
          <p:cNvGrpSpPr/>
          <p:nvPr/>
        </p:nvGrpSpPr>
        <p:grpSpPr>
          <a:xfrm>
            <a:off x="8244720" y="2787120"/>
            <a:ext cx="630720" cy="710280"/>
            <a:chOff x="8244720" y="2787120"/>
            <a:chExt cx="630720" cy="710280"/>
          </a:xfrm>
        </p:grpSpPr>
        <p:sp>
          <p:nvSpPr>
            <p:cNvPr id="193" name="직사각형 32"/>
            <p:cNvSpPr/>
            <p:nvPr/>
          </p:nvSpPr>
          <p:spPr>
            <a:xfrm>
              <a:off x="8363880" y="3255480"/>
              <a:ext cx="4860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ko-KR" sz="1000" spc="-1" strike="noStrike">
                  <a:solidFill>
                    <a:srgbClr val="000000"/>
                  </a:solidFill>
                  <a:latin typeface="나눔고딕 ExtraBold"/>
                  <a:ea typeface="나눔고딕 ExtraBold"/>
                </a:rPr>
                <a:t>평가위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그룹 5"/>
            <p:cNvGrpSpPr/>
            <p:nvPr/>
          </p:nvGrpSpPr>
          <p:grpSpPr>
            <a:xfrm>
              <a:off x="8244720" y="2787120"/>
              <a:ext cx="630720" cy="420120"/>
              <a:chOff x="8244720" y="2787120"/>
              <a:chExt cx="630720" cy="420120"/>
            </a:xfrm>
          </p:grpSpPr>
          <p:pic>
            <p:nvPicPr>
              <p:cNvPr id="195" name="Picture 6" descr="MCj04326210000[1]"/>
              <p:cNvPicPr/>
              <p:nvPr/>
            </p:nvPicPr>
            <p:blipFill>
              <a:blip r:embed="rId3"/>
              <a:stretch/>
            </p:blipFill>
            <p:spPr>
              <a:xfrm flipH="1">
                <a:off x="8244720" y="2851560"/>
                <a:ext cx="312840" cy="3556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6" name="Picture 3" descr="C:\Documents and Settings\성원\Local Settings\Temporary Internet Files\Content.IE5\3PZ8LD36\MC900432626[1].png"/>
              <p:cNvPicPr/>
              <p:nvPr/>
            </p:nvPicPr>
            <p:blipFill>
              <a:blip r:embed="rId4"/>
              <a:stretch/>
            </p:blipFill>
            <p:spPr>
              <a:xfrm flipH="1">
                <a:off x="8401320" y="2787120"/>
                <a:ext cx="318240" cy="356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7" name="Picture 2" descr="C:\Documents and Settings\성원\Local Settings\Temporary Internet Files\Content.IE5\UBULZ14N\MC900432622[1].png"/>
              <p:cNvPicPr/>
              <p:nvPr/>
            </p:nvPicPr>
            <p:blipFill>
              <a:blip r:embed="rId5"/>
              <a:stretch/>
            </p:blipFill>
            <p:spPr>
              <a:xfrm flipH="1">
                <a:off x="8560800" y="2853360"/>
                <a:ext cx="314640" cy="35352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  <p:sp>
        <p:nvSpPr>
          <p:cNvPr id="198" name="TextBox 4"/>
          <p:cNvSpPr/>
          <p:nvPr/>
        </p:nvSpPr>
        <p:spPr>
          <a:xfrm>
            <a:off x="2328480" y="322812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2,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7"/>
          <p:cNvSpPr/>
          <p:nvPr/>
        </p:nvSpPr>
        <p:spPr>
          <a:xfrm>
            <a:off x="2313360" y="4313520"/>
            <a:ext cx="74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,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8"/>
          <p:cNvSpPr/>
          <p:nvPr/>
        </p:nvSpPr>
        <p:spPr>
          <a:xfrm>
            <a:off x="2324520" y="377424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5,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9"/>
          <p:cNvSpPr/>
          <p:nvPr/>
        </p:nvSpPr>
        <p:spPr>
          <a:xfrm>
            <a:off x="2318760" y="4857480"/>
            <a:ext cx="4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9"/>
          <p:cNvSpPr/>
          <p:nvPr/>
        </p:nvSpPr>
        <p:spPr>
          <a:xfrm>
            <a:off x="323640" y="5672160"/>
            <a:ext cx="460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* ‘18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년도 나라장터 입찰공고 현황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총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70,223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건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재공고  포함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직선 화살표 연결선 12"/>
          <p:cNvCxnSpPr>
            <a:stCxn id="186" idx="2"/>
            <a:endCxn id="187" idx="3"/>
          </p:cNvCxnSpPr>
          <p:nvPr/>
        </p:nvCxnSpPr>
        <p:spPr>
          <a:xfrm>
            <a:off x="7460280" y="4114440"/>
            <a:ext cx="3240" cy="833040"/>
          </a:xfrm>
          <a:prstGeom prst="straightConnector1">
            <a:avLst/>
          </a:prstGeom>
          <a:ln w="28575">
            <a:solidFill>
              <a:srgbClr val="000000"/>
            </a:solidFill>
            <a:prstDash val="dash"/>
            <a:round/>
            <a:tailEnd len="med" type="arrow" w="med"/>
          </a:ln>
        </p:spPr>
      </p:cxnSp>
      <p:pic>
        <p:nvPicPr>
          <p:cNvPr id="204" name="그림 42" descr=""/>
          <p:cNvPicPr/>
          <p:nvPr/>
        </p:nvPicPr>
        <p:blipFill>
          <a:blip r:embed="rId6"/>
          <a:stretch/>
        </p:blipFill>
        <p:spPr>
          <a:xfrm>
            <a:off x="5228280" y="389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43" descr=""/>
          <p:cNvPicPr/>
          <p:nvPr/>
        </p:nvPicPr>
        <p:blipFill>
          <a:blip r:embed="rId7"/>
          <a:stretch/>
        </p:blipFill>
        <p:spPr>
          <a:xfrm>
            <a:off x="5622120" y="401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44" descr=""/>
          <p:cNvPicPr/>
          <p:nvPr/>
        </p:nvPicPr>
        <p:blipFill>
          <a:blip r:embed="rId8"/>
          <a:stretch/>
        </p:blipFill>
        <p:spPr>
          <a:xfrm>
            <a:off x="5262120" y="3363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46" descr=""/>
          <p:cNvPicPr/>
          <p:nvPr/>
        </p:nvPicPr>
        <p:blipFill>
          <a:blip r:embed="rId9"/>
          <a:stretch/>
        </p:blipFill>
        <p:spPr>
          <a:xfrm>
            <a:off x="5610240" y="3435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48" descr=""/>
          <p:cNvPicPr/>
          <p:nvPr/>
        </p:nvPicPr>
        <p:blipFill>
          <a:blip r:embed="rId10"/>
          <a:stretch/>
        </p:blipFill>
        <p:spPr>
          <a:xfrm>
            <a:off x="5866560" y="360864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굽은 화살표 14"/>
          <p:cNvSpPr/>
          <p:nvPr/>
        </p:nvSpPr>
        <p:spPr>
          <a:xfrm rot="10800000">
            <a:off x="4847400" y="4745880"/>
            <a:ext cx="1092600" cy="7056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48000">
                <a:srgbClr val="da5d3e"/>
              </a:gs>
              <a:gs pos="100000">
                <a:srgbClr val="b94e34"/>
              </a:gs>
            </a:gsLst>
            <a:lin ang="108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5041080" y="4827960"/>
            <a:ext cx="141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굽은 화살표 18"/>
          <p:cNvSpPr/>
          <p:nvPr/>
        </p:nvSpPr>
        <p:spPr>
          <a:xfrm rot="10800000">
            <a:off x="8316720" y="3525840"/>
            <a:ext cx="402840" cy="48564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TextBox 49"/>
          <p:cNvSpPr/>
          <p:nvPr/>
        </p:nvSpPr>
        <p:spPr>
          <a:xfrm>
            <a:off x="8297280" y="4038480"/>
            <a:ext cx="8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t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611640" y="2833200"/>
            <a:ext cx="1503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Bidding 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 typ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1"/>
          <p:cNvSpPr/>
          <p:nvPr/>
        </p:nvSpPr>
        <p:spPr>
          <a:xfrm>
            <a:off x="2195640" y="2833200"/>
            <a:ext cx="1007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Number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documents) Request for 10 copies including proposal, summary, and presentation materials, 2 CD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Face-to-face submission) Visit the client and submit it face to fac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Still print, face-to-face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571560" cy="23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4590720" y="3429000"/>
            <a:ext cx="3722040" cy="235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To bid / evaluate to Jeju Island!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Environmental change) Local transfer of national and public institut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Completed relocation to 12 central ministries, including the Ministry of Public Administration and Security and the Ministry of Science, Technology and Information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Local transfer of public institutions to 154 regional innovation cities (completed 154), additional 122 review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1359720" y="4927680"/>
            <a:ext cx="7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200" spc="-1" strike="noStrike">
                <a:solidFill>
                  <a:srgbClr val="ffffff"/>
                </a:solidFill>
                <a:latin typeface="Georgia"/>
              </a:rPr>
              <a:t>타 지 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(6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cost) Proposal printing costs and travel expenses are hug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Proposal design, printing cost, bookbinding cost, etc. minimum 100 ~ 5 million won (per case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t least 100,000 won per person in travel expenses including daily expenses and food expenses (per person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ed about) Face-to-face submission and contact with public officials (pre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Exposure to absurd environments, including unfair behavior and transparency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Site evaluation) Offline handwriting evaluation reduces evaluation fairnes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Difficulty in selecting the evaluator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ggregation of scores reduces the fairness of the evaluation by probable errors and close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 Improvement effort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rinting cost) Proposal printing cost 0 w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Print zero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19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s about irrationality) Blocking civil servants' transition to non-face-to-face bidding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9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On-site evaluation) Proposal review and presentation (PT) online image evalua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226" name="그룹 4"/>
          <p:cNvGrpSpPr/>
          <p:nvPr/>
        </p:nvGrpSpPr>
        <p:grpSpPr>
          <a:xfrm>
            <a:off x="481680" y="3936240"/>
            <a:ext cx="2448000" cy="2421000"/>
            <a:chOff x="481680" y="3936240"/>
            <a:chExt cx="2448000" cy="2421000"/>
          </a:xfrm>
        </p:grpSpPr>
        <p:pic>
          <p:nvPicPr>
            <p:cNvPr id="227" name="Picture 5" descr=""/>
            <p:cNvPicPr/>
            <p:nvPr/>
          </p:nvPicPr>
          <p:blipFill>
            <a:blip r:embed="rId1"/>
            <a:stretch/>
          </p:blipFill>
          <p:spPr>
            <a:xfrm flipH="1">
              <a:off x="481680" y="3936240"/>
              <a:ext cx="2448000" cy="20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3"/>
            <p:cNvSpPr/>
            <p:nvPr/>
          </p:nvSpPr>
          <p:spPr>
            <a:xfrm>
              <a:off x="611640" y="6054480"/>
              <a:ext cx="2232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Printing cost 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- &gt; 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그룹 6"/>
          <p:cNvGrpSpPr/>
          <p:nvPr/>
        </p:nvGrpSpPr>
        <p:grpSpPr>
          <a:xfrm>
            <a:off x="3145680" y="3936240"/>
            <a:ext cx="2664000" cy="2439360"/>
            <a:chOff x="3145680" y="3936240"/>
            <a:chExt cx="2664000" cy="2439360"/>
          </a:xfrm>
        </p:grpSpPr>
        <p:pic>
          <p:nvPicPr>
            <p:cNvPr id="230" name="Picture 4" descr=""/>
            <p:cNvPicPr/>
            <p:nvPr/>
          </p:nvPicPr>
          <p:blipFill>
            <a:blip r:embed="rId2"/>
            <a:stretch/>
          </p:blipFill>
          <p:spPr>
            <a:xfrm>
              <a:off x="3145680" y="3936240"/>
              <a:ext cx="266400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7"/>
            <p:cNvSpPr/>
            <p:nvPr/>
          </p:nvSpPr>
          <p:spPr>
            <a:xfrm>
              <a:off x="3276000" y="6042600"/>
              <a:ext cx="244800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Non- face-to-face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그룹 11"/>
          <p:cNvGrpSpPr/>
          <p:nvPr/>
        </p:nvGrpSpPr>
        <p:grpSpPr>
          <a:xfrm>
            <a:off x="6012000" y="3918240"/>
            <a:ext cx="2736000" cy="2409120"/>
            <a:chOff x="6012000" y="3918240"/>
            <a:chExt cx="2736000" cy="2409120"/>
          </a:xfrm>
        </p:grpSpPr>
        <p:pic>
          <p:nvPicPr>
            <p:cNvPr id="233" name="Picture 2" descr=""/>
            <p:cNvPicPr/>
            <p:nvPr/>
          </p:nvPicPr>
          <p:blipFill>
            <a:blip r:embed="rId3"/>
            <a:stretch/>
          </p:blipFill>
          <p:spPr>
            <a:xfrm>
              <a:off x="6025680" y="3918240"/>
              <a:ext cx="265032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9"/>
            <p:cNvSpPr/>
            <p:nvPr/>
          </p:nvSpPr>
          <p:spPr>
            <a:xfrm>
              <a:off x="6012000" y="6024600"/>
              <a:ext cx="2736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offline-&gt; </a:t>
              </a: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Online evaluation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직사각형 18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19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Innovation activity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Education Promotion] Training and Promotion of Pilot Projects and System Users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District education centered on local innovation cities (6) Collective education and promotion (more than 1,500 attendees) 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Opening of the Procurement Training Center's regular training course (e-ordering system) (9 times a year)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666720" y="2797920"/>
            <a:ext cx="8000640" cy="1644120"/>
          </a:xfrm>
          <a:prstGeom prst="rect">
            <a:avLst/>
          </a:prstGeom>
          <a:ln w="9525">
            <a:noFill/>
          </a:ln>
        </p:spPr>
      </p:pic>
      <p:pic>
        <p:nvPicPr>
          <p:cNvPr id="240" name="Picture 11" descr=""/>
          <p:cNvPicPr/>
          <p:nvPr/>
        </p:nvPicPr>
        <p:blipFill>
          <a:blip r:embed="rId2"/>
          <a:stretch/>
        </p:blipFill>
        <p:spPr>
          <a:xfrm>
            <a:off x="6090840" y="4533480"/>
            <a:ext cx="2560680" cy="1680480"/>
          </a:xfrm>
          <a:prstGeom prst="rect">
            <a:avLst/>
          </a:prstGeom>
          <a:ln w="9525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718560" y="4501440"/>
            <a:ext cx="2562120" cy="1712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4"/>
          <a:stretch/>
        </p:blipFill>
        <p:spPr>
          <a:xfrm>
            <a:off x="3316320" y="4507920"/>
            <a:ext cx="2736000" cy="1706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4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57000" y="2824200"/>
            <a:ext cx="259272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Quality Performance] 'Billing cost of 64 billion won after 18 year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Online submission of negotiation contract proposals has increased significantly since the time of system </a:t>
            </a:r>
            <a:r>
              <a:rPr b="0" lang="en-US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improvement ('August 18).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절감 사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 u="sng">
                <a:solidFill>
                  <a:srgbClr val="00a3d6"/>
                </a:solidFill>
                <a:uFillTx/>
                <a:latin typeface="나눔고딕 ExtraBold"/>
                <a:ea typeface="나눔고딕 ExtraBold"/>
                <a:hlinkClick r:id="rId1"/>
              </a:rPr>
              <a:t>영상 클릭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직사각형 10"/>
          <p:cNvSpPr/>
          <p:nvPr/>
        </p:nvSpPr>
        <p:spPr>
          <a:xfrm>
            <a:off x="285840" y="2804760"/>
            <a:ext cx="4000320" cy="2999880"/>
          </a:xfrm>
          <a:prstGeom prst="rect">
            <a:avLst/>
          </a:prstGeom>
          <a:gradFill rotWithShape="0">
            <a:gsLst>
              <a:gs pos="0">
                <a:srgbClr val="f5c5bf"/>
              </a:gs>
              <a:gs pos="100000">
                <a:srgbClr val="fae2df"/>
              </a:gs>
            </a:gsLst>
            <a:lin ang="54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522360" y="3019320"/>
            <a:ext cx="3495240" cy="2523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Major achievements) Bidding cost reduced 64 billion w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직사각형 12"/>
          <p:cNvSpPr/>
          <p:nvPr/>
        </p:nvSpPr>
        <p:spPr>
          <a:xfrm>
            <a:off x="4969800" y="3516840"/>
            <a:ext cx="3816720" cy="191700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나눔고딕"/>
              </a:rPr>
              <a:t>Print cost reduction </a:t>
            </a:r>
            <a:r>
              <a:rPr b="1" lang="en-US" sz="1600" spc="-1" strike="noStrike">
                <a:solidFill>
                  <a:srgbClr val="ff0000"/>
                </a:solidFill>
                <a:latin typeface="나눔고딕"/>
                <a:ea typeface="나눔고딕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2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</a:t>
            </a: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58296,000,000</a:t>
            </a:r>
            <a:r>
              <a:rPr b="0" lang="ko-KR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나눔고딕"/>
              </a:rPr>
              <a:t>Travel cost savings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1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인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5,829,600,0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원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‘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8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~ 19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6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말 까지 현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자유형 16"/>
          <p:cNvSpPr/>
          <p:nvPr/>
        </p:nvSpPr>
        <p:spPr>
          <a:xfrm>
            <a:off x="1360080" y="3447720"/>
            <a:ext cx="1859040" cy="119124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1859280" h="1120140">
                <a:moveTo>
                  <a:pt x="0" y="1120140"/>
                </a:moveTo>
                <a:lnTo>
                  <a:pt x="944880" y="685800"/>
                </a:lnTo>
                <a:lnTo>
                  <a:pt x="1737360" y="76200"/>
                </a:lnTo>
                <a:lnTo>
                  <a:pt x="1638300" y="22860"/>
                </a:lnTo>
                <a:lnTo>
                  <a:pt x="1836420" y="0"/>
                </a:lnTo>
                <a:lnTo>
                  <a:pt x="1859280" y="152400"/>
                </a:lnTo>
                <a:lnTo>
                  <a:pt x="1775460" y="106680"/>
                </a:lnTo>
                <a:lnTo>
                  <a:pt x="982980" y="708660"/>
                </a:lnTo>
                <a:lnTo>
                  <a:pt x="0" y="1120140"/>
                </a:lnTo>
                <a:close/>
              </a:path>
            </a:pathLst>
          </a:cu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0" name="자유형 18"/>
          <p:cNvSpPr/>
          <p:nvPr/>
        </p:nvSpPr>
        <p:spPr>
          <a:xfrm>
            <a:off x="1550880" y="4366080"/>
            <a:ext cx="1719720" cy="686520"/>
          </a:xfrm>
          <a:custGeom>
            <a:avLst/>
            <a:gdLst>
              <a:gd name="textAreaLeft" fmla="*/ 0 w 1719720"/>
              <a:gd name="textAreaRight" fmla="*/ 1720080 w 1719720"/>
              <a:gd name="textAreaTop" fmla="*/ 0 h 686520"/>
              <a:gd name="textAreaBottom" fmla="*/ 686880 h 686520"/>
            </a:gdLst>
            <a:ahLst/>
            <a:rect l="textAreaLeft" t="textAreaTop" r="textAreaRight" b="textAreaBottom"/>
            <a:pathLst>
              <a:path w="1722120" h="586740">
                <a:moveTo>
                  <a:pt x="0" y="586740"/>
                </a:moveTo>
                <a:lnTo>
                  <a:pt x="906780" y="358140"/>
                </a:lnTo>
                <a:lnTo>
                  <a:pt x="1569720" y="76200"/>
                </a:lnTo>
                <a:lnTo>
                  <a:pt x="1516380" y="0"/>
                </a:lnTo>
                <a:lnTo>
                  <a:pt x="1722120" y="7620"/>
                </a:lnTo>
                <a:lnTo>
                  <a:pt x="1653540" y="182880"/>
                </a:lnTo>
                <a:lnTo>
                  <a:pt x="1607820" y="121920"/>
                </a:lnTo>
                <a:lnTo>
                  <a:pt x="937260" y="396240"/>
                </a:lnTo>
                <a:lnTo>
                  <a:pt x="0" y="586740"/>
                </a:lnTo>
                <a:close/>
              </a:path>
            </a:pathLst>
          </a:custGeom>
          <a:solidFill>
            <a:srgbClr val="0070c0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3"/>
          <a:stretch/>
        </p:blipFill>
        <p:spPr>
          <a:xfrm>
            <a:off x="3357720" y="3876480"/>
            <a:ext cx="552240" cy="571320"/>
          </a:xfrm>
          <a:prstGeom prst="rect">
            <a:avLst/>
          </a:prstGeom>
          <a:ln w="9525">
            <a:noFill/>
          </a:ln>
        </p:spPr>
      </p:pic>
      <p:sp>
        <p:nvSpPr>
          <p:cNvPr id="252" name="오른쪽 화살표 11"/>
          <p:cNvSpPr/>
          <p:nvPr/>
        </p:nvSpPr>
        <p:spPr>
          <a:xfrm>
            <a:off x="4500720" y="3947760"/>
            <a:ext cx="28548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99640" y="332640"/>
            <a:ext cx="7595640" cy="16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738720" y="3429000"/>
            <a:ext cx="77720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70c0"/>
                </a:solidFill>
                <a:latin typeface="Georgia"/>
              </a:rPr>
              <a:t>thanks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953</TotalTime>
  <Application>LibreOffice/7.4.7.2$Linux_X86_64 LibreOffice_project/40$Build-2</Application>
  <AppVersion>15.0000</AppVersion>
  <Words>832</Words>
  <Paragraphs>15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0:16:16Z</dcterms:created>
  <dc:creator>e-발주</dc:creator>
  <dc:description/>
  <dc:language>en-US</dc:language>
  <cp:lastModifiedBy>USER</cp:lastModifiedBy>
  <cp:lastPrinted>2019-09-15T10:14:29Z</cp:lastPrinted>
  <dcterms:modified xsi:type="dcterms:W3CDTF">2019-12-13T13:33:35Z</dcterms:modified>
  <cp:revision>321</cp:revision>
  <dc:subject/>
  <dc:title>구매업무 협의 (조달)  정보  공유/개방 추진으로 발주기관 공공조달 업무지원 및 우리청 업무 경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화면 슬라이드 쇼(4:3)</vt:lpwstr>
  </property>
  <property fmtid="{D5CDD505-2E9C-101B-9397-08002B2CF9AE}" pid="4" name="Slides">
    <vt:r8>9</vt:r8>
  </property>
</Properties>
</file>