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4B6BB0-3E97-4A64-B4B7-F27BBD502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F954A2-960F-429C-B837-530FE769DDC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8F5CA7-270D-432E-8EAC-E96206C357B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89DA66-0A13-4145-9F29-B089220BA58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02159B-DABC-46E1-A10A-2A3A1DA2ADC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994B30-5C42-436D-8455-F905EB6D120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E5BF51-DC50-460B-B108-7D5AFB4277C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D90647-5276-47F8-B1C2-CD149F535DD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6F57EB-AD13-4009-8A90-914D2D3BC11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DC7F25-4A28-4089-BEBD-121476749F1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2A0056-972B-4C70-84DB-4EA7E706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B1A684-870F-4D4A-9E88-F3A112AF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522D70-DCCF-4F63-98EC-FEDB54C1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42B2CD-1814-4835-878D-67BACFD1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30F6E0-1791-435C-BBAF-0A3E4F69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17BD6B-DD28-4DFF-84F7-DA51F63B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D7163B-92C5-4575-994C-3F1A1E4A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894296-E8AA-4771-9FC6-B84B0096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379CF8-7190-4AC1-8E9C-968CF2DA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5ADA6F-4BB1-417B-ACDA-E3B49454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680996-1D65-4A8B-B719-90808DC5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1ABC8F-90E9-40F0-A127-AA6558DD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5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6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76773F9-C7F8-4810-9799-502F10098305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en-US" sz="14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Republic of Korea</a:t>
            </a:r>
            <a:br>
              <a:rPr sz="2400"/>
            </a:b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“P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HY헤드라인M"/>
              </a:rPr>
              <a:t>Broadening Access to Public Procurement Service : Online Proposal and Evaluation Platform(e-ordering system) </a:t>
            </a: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직사각형 3"/>
          <p:cNvSpPr/>
          <p:nvPr/>
        </p:nvSpPr>
        <p:spPr>
          <a:xfrm>
            <a:off x="467640" y="3070800"/>
            <a:ext cx="849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Expect to save KRW 140 billion annually when using all public institution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Proposals, evaluations and cases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pt) The bidding process through evaluation after receiving the proposal (standard) from the government bidding, and announced more than 70,000 bids per year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양쪽 모서리가 둥근 사각형 106"/>
          <p:cNvSpPr/>
          <p:nvPr/>
        </p:nvSpPr>
        <p:spPr>
          <a:xfrm flipV="1" rot="10800000">
            <a:off x="3500280" y="3811680"/>
            <a:ext cx="1431720" cy="73368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ding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Off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Submit propo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HY견고딕"/>
              </a:rPr>
              <a:t>Venture busi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직사각형 38"/>
          <p:cNvSpPr/>
          <p:nvPr/>
        </p:nvSpPr>
        <p:spPr>
          <a:xfrm>
            <a:off x="6606000" y="3571920"/>
            <a:ext cx="170892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Proposal Evaluation</a:t>
            </a:r>
            <a:r>
              <a:rPr b="0" lang="en-US" sz="11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, (Evaluation Committee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양쪽 모서리가 둥근 사각형 40"/>
          <p:cNvSpPr/>
          <p:nvPr/>
        </p:nvSpPr>
        <p:spPr>
          <a:xfrm flipV="1" rot="10800000">
            <a:off x="665388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꺾인 연결선 5"/>
          <p:cNvCxnSpPr>
            <a:stCxn id="181" idx="3"/>
            <a:endCxn id="185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189" name="꺾인 연결선 15"/>
          <p:cNvCxnSpPr>
            <a:stCxn id="185" idx="3"/>
            <a:endCxn id="186" idx="0"/>
          </p:cNvCxnSpPr>
          <p:nvPr/>
        </p:nvCxnSpPr>
        <p:spPr>
          <a:xfrm>
            <a:off x="6589440" y="3017520"/>
            <a:ext cx="87120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190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192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193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195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6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7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198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직선 화살표 연결선 12"/>
          <p:cNvCxnSpPr>
            <a:stCxn id="186" idx="2"/>
            <a:endCxn id="187" idx="3"/>
          </p:cNvCxnSpPr>
          <p:nvPr/>
        </p:nvCxnSpPr>
        <p:spPr>
          <a:xfrm>
            <a:off x="7460280" y="4114440"/>
            <a:ext cx="324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204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041080" y="4827960"/>
            <a:ext cx="14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8297280" y="403848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11640" y="2833200"/>
            <a:ext cx="15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Bidding 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 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2195640" y="2833200"/>
            <a:ext cx="1007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Number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documents) Request for 10 copies including proposal, summary, and presentation materials, 2 CD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Face-to-face submission) Visit the client and submit it face to fa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Still print, face-to-face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To bid / evaluate to Jeju Island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Environmental change) Local transfer of national and public institu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ompleted relocation to 12 central ministries, including the Ministry of Public Administration and Security and the Ministry of Science, Technology and Information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Local transfer of public institutions to 154 regional innovation cities (completed 154), additional 122 review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cost) Proposal printing costs and travel expenses are hug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Proposal design, printing cost, bookbinding cost, etc. minimum 100 ~ 5 million won (per case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t least 100,000 won per person in travel expenses including daily expenses and food expenses (per person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ed about) Face-to-face submission and contact with public officials (pre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Exposure to absurd environments, including unfair behavior and transparenc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Site evaluation) Offline handwriting evaluation reduces evaluation fairn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Difficulty in selecting the evaluator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ggregation of scores reduces the fairness of the evaluation by probable errors and close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 Improvement effor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rinting cost) Proposal printing cost 0 w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Print zer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9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s about irrationality) Blocking civil servants' transition to non-face-to-face bidding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On-site evaluation) Proposal review and presentation (PT) online image evalu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26" name="그룹 4"/>
          <p:cNvGrpSpPr/>
          <p:nvPr/>
        </p:nvGrpSpPr>
        <p:grpSpPr>
          <a:xfrm>
            <a:off x="481680" y="3936240"/>
            <a:ext cx="2448000" cy="2421000"/>
            <a:chOff x="481680" y="3936240"/>
            <a:chExt cx="2448000" cy="242100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93624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3"/>
            <p:cNvSpPr/>
            <p:nvPr/>
          </p:nvSpPr>
          <p:spPr>
            <a:xfrm>
              <a:off x="611640" y="605448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Printing cost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그룹 6"/>
          <p:cNvGrpSpPr/>
          <p:nvPr/>
        </p:nvGrpSpPr>
        <p:grpSpPr>
          <a:xfrm>
            <a:off x="3145680" y="3936240"/>
            <a:ext cx="2664000" cy="2439360"/>
            <a:chOff x="3145680" y="3936240"/>
            <a:chExt cx="2664000" cy="243936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93624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3276000" y="6042600"/>
              <a:ext cx="244800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Non- face-to-face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그룹 11"/>
          <p:cNvGrpSpPr/>
          <p:nvPr/>
        </p:nvGrpSpPr>
        <p:grpSpPr>
          <a:xfrm>
            <a:off x="6012000" y="3918240"/>
            <a:ext cx="2736000" cy="2409120"/>
            <a:chOff x="6012000" y="3918240"/>
            <a:chExt cx="2736000" cy="2409120"/>
          </a:xfrm>
        </p:grpSpPr>
        <p:pic>
          <p:nvPicPr>
            <p:cNvPr id="233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91824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"/>
            <p:cNvSpPr/>
            <p:nvPr/>
          </p:nvSpPr>
          <p:spPr>
            <a:xfrm>
              <a:off x="6012000" y="6024600"/>
              <a:ext cx="2736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offline-&gt; </a:t>
              </a: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Online evaluation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직사각형 18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9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Promotion conten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Education Promotion] Training and Promotion of Pilot Projects and System User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District education centered on local innovation cities (6) Collective education and promotion (more than 1,500 attendees) 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Opening of the Procurement Training Center's regular training course (e-ordering system) (9 times a year)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Quality Performance] 'Billing cost of 64 billion won after 18 yea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Online submission of negotiation contract proposals has increased significantly since the time of system </a:t>
            </a:r>
            <a:r>
              <a:rPr b="0" lang="en-US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improvement ('August 18).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직사각형 10"/>
          <p:cNvSpPr/>
          <p:nvPr/>
        </p:nvSpPr>
        <p:spPr>
          <a:xfrm>
            <a:off x="285840" y="280476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2360" y="30193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Major achievements) Bidding cost reduced 64 billion w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직사각형 12"/>
          <p:cNvSpPr/>
          <p:nvPr/>
        </p:nvSpPr>
        <p:spPr>
          <a:xfrm>
            <a:off x="4969800" y="3516840"/>
            <a:ext cx="3816720" cy="191700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나눔고딕"/>
              </a:rPr>
              <a:t>Print cost reduction </a:t>
            </a:r>
            <a:r>
              <a:rPr b="1" lang="en-US" sz="16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나눔고딕"/>
              </a:rPr>
              <a:t>Travel cost savings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자유형 16"/>
          <p:cNvSpPr/>
          <p:nvPr/>
        </p:nvSpPr>
        <p:spPr>
          <a:xfrm>
            <a:off x="1360080" y="344772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0" name="자유형 18"/>
          <p:cNvSpPr/>
          <p:nvPr/>
        </p:nvSpPr>
        <p:spPr>
          <a:xfrm>
            <a:off x="1550880" y="43660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3357720" y="38764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252" name="오른쪽 화살표 11"/>
          <p:cNvSpPr/>
          <p:nvPr/>
        </p:nvSpPr>
        <p:spPr>
          <a:xfrm>
            <a:off x="4500720" y="394776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thanks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50</TotalTime>
  <Application>LibreOffice/7.4.7.2$Linux_X86_64 LibreOffice_project/40$Build-2</Application>
  <AppVersion>15.0000</AppVersion>
  <Words>832</Words>
  <Paragraphs>1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28:55Z</dcterms:modified>
  <cp:revision>320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9</vt:r8>
  </property>
</Properties>
</file>